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B2F-8A09-474C-B51E-6FF0BD66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D78-E9AF-4ACE-8C31-6D76997E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124-1CDE-405E-BBD9-F56E4A03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F26-B598-4EF6-A8DA-EC12A04D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06A-296D-4975-9716-71FAA936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CA0-D565-4C1F-B06B-0860908F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C6A-7C42-4F2B-A3CC-B07AE158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728-4BFF-47AE-8B03-C47BE710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B20-0525-40BD-A79A-F47DD65A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E30-E21E-4154-970A-C6AAD70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62D-B237-420C-AA2D-73823A07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438-1BE3-4AC3-96F2-084EF00A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80D3-31C7-45E3-AA76-8B99FDC142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1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3.png"/><Relationship Id="rId38" Type="http://schemas.openxmlformats.org/officeDocument/2006/relationships/image" Target="../media/image36.png"/><Relationship Id="rId39" Type="http://schemas.openxmlformats.org/officeDocument/2006/relationships/image" Target="../media/image35.png"/><Relationship Id="rId40" Type="http://schemas.openxmlformats.org/officeDocument/2006/relationships/image" Target="../media/image37.png"/><Relationship Id="rId41" Type="http://schemas.openxmlformats.org/officeDocument/2006/relationships/image" Target="../media/image38.png"/><Relationship Id="rId42" Type="http://schemas.openxmlformats.org/officeDocument/2006/relationships/image" Target="../media/image39.png"/><Relationship Id="rId43" Type="http://schemas.openxmlformats.org/officeDocument/2006/relationships/image" Target="../media/image37.pn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image" Target="../media/image1.png"/><Relationship Id="rId4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2701800" y="255960"/>
            <a:ext cx="5029200" cy="23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685440" tIns="857160" bIns="85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伦理委员会工作流程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32"/>
          <p:cNvSpPr/>
          <p:nvPr/>
        </p:nvSpPr>
        <p:spPr>
          <a:xfrm>
            <a:off x="62640" y="1005840"/>
            <a:ext cx="1382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2693880" y="2908440"/>
            <a:ext cx="35308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内容占位符 2"/>
          <p:cNvSpPr/>
          <p:nvPr/>
        </p:nvSpPr>
        <p:spPr>
          <a:xfrm>
            <a:off x="2693880" y="3813120"/>
            <a:ext cx="3530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5"/>
          <p:cNvGrpSpPr/>
          <p:nvPr/>
        </p:nvGrpSpPr>
        <p:grpSpPr>
          <a:xfrm>
            <a:off x="1335240" y="1941120"/>
            <a:ext cx="6137280" cy="3272400"/>
            <a:chOff x="1335240" y="1941120"/>
            <a:chExt cx="6137280" cy="3272400"/>
          </a:xfrm>
        </p:grpSpPr>
        <p:grpSp>
          <p:nvGrpSpPr>
            <p:cNvPr id="46" name="组合 11"/>
            <p:cNvGrpSpPr/>
            <p:nvPr/>
          </p:nvGrpSpPr>
          <p:grpSpPr>
            <a:xfrm>
              <a:off x="1335240" y="2188800"/>
              <a:ext cx="6137280" cy="3024720"/>
              <a:chOff x="1335240" y="2188800"/>
              <a:chExt cx="6137280" cy="3024720"/>
            </a:xfrm>
          </p:grpSpPr>
          <p:sp>
            <p:nvSpPr>
              <p:cNvPr id="47" name="object 50"/>
              <p:cNvSpPr/>
              <p:nvPr/>
            </p:nvSpPr>
            <p:spPr>
              <a:xfrm>
                <a:off x="5810760" y="4257000"/>
                <a:ext cx="697320" cy="1850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bject 2"/>
              <p:cNvSpPr/>
              <p:nvPr/>
            </p:nvSpPr>
            <p:spPr>
              <a:xfrm>
                <a:off x="4189320" y="3722040"/>
                <a:ext cx="2571480" cy="528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bject 3"/>
              <p:cNvSpPr/>
              <p:nvPr/>
            </p:nvSpPr>
            <p:spPr>
              <a:xfrm>
                <a:off x="5584680" y="3876480"/>
                <a:ext cx="1184400" cy="28116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object 4" descr=""/>
              <p:cNvPicPr/>
              <p:nvPr/>
            </p:nvPicPr>
            <p:blipFill>
              <a:blip r:embed="rId4"/>
              <a:stretch/>
            </p:blipFill>
            <p:spPr>
              <a:xfrm>
                <a:off x="4216680" y="3721680"/>
                <a:ext cx="2516040" cy="4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object 5"/>
              <p:cNvSpPr/>
              <p:nvPr/>
            </p:nvSpPr>
            <p:spPr>
              <a:xfrm>
                <a:off x="5688000" y="3935880"/>
                <a:ext cx="10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2</a:t>
                </a:r>
                <a:r>
                  <a:rPr b="1" lang="zh-CN" sz="7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名委员负责审查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bject 6"/>
              <p:cNvSpPr/>
              <p:nvPr/>
            </p:nvSpPr>
            <p:spPr>
              <a:xfrm>
                <a:off x="2541600" y="2189520"/>
                <a:ext cx="2379600" cy="27252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7"/>
              <p:cNvSpPr/>
              <p:nvPr/>
            </p:nvSpPr>
            <p:spPr>
              <a:xfrm>
                <a:off x="2770920" y="2188800"/>
                <a:ext cx="1920600" cy="31356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bject 8"/>
              <p:cNvSpPr/>
              <p:nvPr/>
            </p:nvSpPr>
            <p:spPr>
              <a:xfrm>
                <a:off x="2568960" y="2203560"/>
                <a:ext cx="2324160" cy="220320"/>
              </a:xfrm>
              <a:prstGeom prst="rect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bject 9"/>
              <p:cNvSpPr/>
              <p:nvPr/>
            </p:nvSpPr>
            <p:spPr>
              <a:xfrm>
                <a:off x="2986560" y="2256480"/>
                <a:ext cx="1724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递交伦理审查申请；送审文件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bject 10"/>
              <p:cNvSpPr/>
              <p:nvPr/>
            </p:nvSpPr>
            <p:spPr>
              <a:xfrm>
                <a:off x="5408280" y="2189520"/>
                <a:ext cx="1450440" cy="272520"/>
              </a:xfrm>
              <a:prstGeom prst="rect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bject 11"/>
              <p:cNvSpPr/>
              <p:nvPr/>
            </p:nvSpPr>
            <p:spPr>
              <a:xfrm>
                <a:off x="5632560" y="2188800"/>
                <a:ext cx="1002600" cy="31356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bject 12"/>
              <p:cNvSpPr/>
              <p:nvPr/>
            </p:nvSpPr>
            <p:spPr>
              <a:xfrm>
                <a:off x="5436000" y="2203560"/>
                <a:ext cx="1395360" cy="220320"/>
              </a:xfrm>
              <a:prstGeom prst="rect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bject 13"/>
              <p:cNvSpPr/>
              <p:nvPr/>
            </p:nvSpPr>
            <p:spPr>
              <a:xfrm>
                <a:off x="5698440" y="2249640"/>
                <a:ext cx="807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补充所需文件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bject 14"/>
              <p:cNvSpPr/>
              <p:nvPr/>
            </p:nvSpPr>
            <p:spPr>
              <a:xfrm>
                <a:off x="2542320" y="2523960"/>
                <a:ext cx="2378160" cy="273600"/>
              </a:xfrm>
              <a:prstGeom prst="rect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bject 15"/>
              <p:cNvSpPr/>
              <p:nvPr/>
            </p:nvSpPr>
            <p:spPr>
              <a:xfrm>
                <a:off x="2574000" y="2523960"/>
                <a:ext cx="2314440" cy="313560"/>
              </a:xfrm>
              <a:prstGeom prst="rect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bject 16"/>
              <p:cNvSpPr/>
              <p:nvPr/>
            </p:nvSpPr>
            <p:spPr>
              <a:xfrm>
                <a:off x="2570040" y="2538000"/>
                <a:ext cx="2323440" cy="221040"/>
              </a:xfrm>
              <a:prstGeom prst="rect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bject 17"/>
              <p:cNvSpPr/>
              <p:nvPr/>
            </p:nvSpPr>
            <p:spPr>
              <a:xfrm>
                <a:off x="2589120" y="2588760"/>
                <a:ext cx="211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形式审查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bject 18"/>
              <p:cNvSpPr/>
              <p:nvPr/>
            </p:nvSpPr>
            <p:spPr>
              <a:xfrm>
                <a:off x="3121200" y="3353760"/>
                <a:ext cx="1218240" cy="260280"/>
              </a:xfrm>
              <a:prstGeom prst="rect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bject 19"/>
              <p:cNvSpPr/>
              <p:nvPr/>
            </p:nvSpPr>
            <p:spPr>
              <a:xfrm>
                <a:off x="3228480" y="3346560"/>
                <a:ext cx="1002600" cy="313560"/>
              </a:xfrm>
              <a:prstGeom prst="rect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bject 20"/>
              <p:cNvSpPr/>
              <p:nvPr/>
            </p:nvSpPr>
            <p:spPr>
              <a:xfrm>
                <a:off x="3148920" y="3367800"/>
                <a:ext cx="1162800" cy="208080"/>
              </a:xfrm>
              <a:prstGeom prst="rect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bject 21"/>
              <p:cNvSpPr/>
              <p:nvPr/>
            </p:nvSpPr>
            <p:spPr>
              <a:xfrm>
                <a:off x="3368160" y="3396600"/>
                <a:ext cx="807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确定审查方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" name="object 24" descr=""/>
              <p:cNvPicPr/>
              <p:nvPr/>
            </p:nvPicPr>
            <p:blipFill>
              <a:blip r:embed="rId17"/>
              <a:stretch/>
            </p:blipFill>
            <p:spPr>
              <a:xfrm>
                <a:off x="3259080" y="3989880"/>
                <a:ext cx="929880" cy="34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object 25"/>
              <p:cNvSpPr/>
              <p:nvPr/>
            </p:nvSpPr>
            <p:spPr>
              <a:xfrm>
                <a:off x="3342240" y="4037400"/>
                <a:ext cx="8744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7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审查意见不一致或为否定性意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bject 29"/>
              <p:cNvSpPr/>
              <p:nvPr/>
            </p:nvSpPr>
            <p:spPr>
              <a:xfrm>
                <a:off x="3807000" y="4451760"/>
                <a:ext cx="1089000" cy="462600"/>
              </a:xfrm>
              <a:prstGeom prst="rect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bject 30"/>
              <p:cNvSpPr/>
              <p:nvPr/>
            </p:nvSpPr>
            <p:spPr>
              <a:xfrm>
                <a:off x="3874320" y="4496400"/>
                <a:ext cx="1039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审查意见为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“</a:t>
                </a: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同意”、“必要的修改后同意”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bject 31"/>
              <p:cNvSpPr/>
              <p:nvPr/>
            </p:nvSpPr>
            <p:spPr>
              <a:xfrm>
                <a:off x="2153520" y="4350960"/>
                <a:ext cx="752760" cy="383760"/>
              </a:xfrm>
              <a:prstGeom prst="rect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bject 32"/>
              <p:cNvSpPr/>
              <p:nvPr/>
            </p:nvSpPr>
            <p:spPr>
              <a:xfrm>
                <a:off x="2160720" y="4331520"/>
                <a:ext cx="739440" cy="463320"/>
              </a:xfrm>
              <a:prstGeom prst="rect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bject 33"/>
              <p:cNvSpPr/>
              <p:nvPr/>
            </p:nvSpPr>
            <p:spPr>
              <a:xfrm>
                <a:off x="2181600" y="4365000"/>
                <a:ext cx="697320" cy="331200"/>
              </a:xfrm>
              <a:prstGeom prst="rect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bject 34"/>
              <p:cNvSpPr/>
              <p:nvPr/>
            </p:nvSpPr>
            <p:spPr>
              <a:xfrm>
                <a:off x="2291040" y="4388040"/>
                <a:ext cx="54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召开伦理审查会议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bject 35"/>
              <p:cNvSpPr/>
              <p:nvPr/>
            </p:nvSpPr>
            <p:spPr>
              <a:xfrm>
                <a:off x="5408280" y="2936160"/>
                <a:ext cx="1450440" cy="259560"/>
              </a:xfrm>
              <a:prstGeom prst="rect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bject 36"/>
              <p:cNvSpPr/>
              <p:nvPr/>
            </p:nvSpPr>
            <p:spPr>
              <a:xfrm>
                <a:off x="5697720" y="2928600"/>
                <a:ext cx="871560" cy="313560"/>
              </a:xfrm>
              <a:prstGeom prst="rect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bject 37"/>
              <p:cNvSpPr/>
              <p:nvPr/>
            </p:nvSpPr>
            <p:spPr>
              <a:xfrm>
                <a:off x="5436000" y="2950200"/>
                <a:ext cx="1395360" cy="207000"/>
              </a:xfrm>
              <a:prstGeom prst="rect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bject 38"/>
              <p:cNvSpPr/>
              <p:nvPr/>
            </p:nvSpPr>
            <p:spPr>
              <a:xfrm>
                <a:off x="5829120" y="2985120"/>
                <a:ext cx="674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联系申请人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bject 42"/>
              <p:cNvSpPr/>
              <p:nvPr/>
            </p:nvSpPr>
            <p:spPr>
              <a:xfrm>
                <a:off x="2182320" y="4860360"/>
                <a:ext cx="908640" cy="331560"/>
              </a:xfrm>
              <a:prstGeom prst="rect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bject 43"/>
              <p:cNvSpPr/>
              <p:nvPr/>
            </p:nvSpPr>
            <p:spPr>
              <a:xfrm>
                <a:off x="2192760" y="4943880"/>
                <a:ext cx="941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审查批件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/</a:t>
                </a: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意见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bject 44"/>
              <p:cNvSpPr/>
              <p:nvPr/>
            </p:nvSpPr>
            <p:spPr>
              <a:xfrm>
                <a:off x="5446800" y="4900680"/>
                <a:ext cx="1333440" cy="272520"/>
              </a:xfrm>
              <a:prstGeom prst="rect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bject 45"/>
              <p:cNvSpPr/>
              <p:nvPr/>
            </p:nvSpPr>
            <p:spPr>
              <a:xfrm>
                <a:off x="5480280" y="4899960"/>
                <a:ext cx="1265400" cy="313560"/>
              </a:xfrm>
              <a:prstGeom prst="rect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bject 46"/>
              <p:cNvSpPr/>
              <p:nvPr/>
            </p:nvSpPr>
            <p:spPr>
              <a:xfrm>
                <a:off x="5474520" y="4914720"/>
                <a:ext cx="1278000" cy="220320"/>
              </a:xfrm>
              <a:prstGeom prst="rect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bject 47"/>
              <p:cNvSpPr/>
              <p:nvPr/>
            </p:nvSpPr>
            <p:spPr>
              <a:xfrm>
                <a:off x="5609520" y="4949640"/>
                <a:ext cx="1068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主任委员批阅签字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bject 49"/>
              <p:cNvSpPr/>
              <p:nvPr/>
            </p:nvSpPr>
            <p:spPr>
              <a:xfrm>
                <a:off x="5745600" y="4525200"/>
                <a:ext cx="739440" cy="363960"/>
              </a:xfrm>
              <a:prstGeom prst="rect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bject 50"/>
              <p:cNvSpPr/>
              <p:nvPr/>
            </p:nvSpPr>
            <p:spPr>
              <a:xfrm>
                <a:off x="5776200" y="4583880"/>
                <a:ext cx="697320" cy="214560"/>
              </a:xfrm>
              <a:prstGeom prst="rect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bject 51"/>
              <p:cNvSpPr/>
              <p:nvPr/>
            </p:nvSpPr>
            <p:spPr>
              <a:xfrm>
                <a:off x="5887800" y="4618800"/>
                <a:ext cx="5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传达决定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bject 52"/>
              <p:cNvSpPr/>
              <p:nvPr/>
            </p:nvSpPr>
            <p:spPr>
              <a:xfrm>
                <a:off x="2890080" y="2839680"/>
                <a:ext cx="1681560" cy="464040"/>
              </a:xfrm>
              <a:prstGeom prst="rect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bject 53"/>
              <p:cNvSpPr/>
              <p:nvPr/>
            </p:nvSpPr>
            <p:spPr>
              <a:xfrm>
                <a:off x="3294360" y="2935080"/>
                <a:ext cx="871560" cy="313560"/>
              </a:xfrm>
              <a:prstGeom prst="rect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object 54" descr=""/>
              <p:cNvPicPr/>
              <p:nvPr/>
            </p:nvPicPr>
            <p:blipFill>
              <a:blip r:embed="rId33"/>
              <a:stretch/>
            </p:blipFill>
            <p:spPr>
              <a:xfrm>
                <a:off x="2894400" y="2849400"/>
                <a:ext cx="1626480" cy="41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object 55"/>
              <p:cNvSpPr/>
              <p:nvPr/>
            </p:nvSpPr>
            <p:spPr>
              <a:xfrm>
                <a:off x="1805400" y="3763440"/>
                <a:ext cx="1450440" cy="465120"/>
              </a:xfrm>
              <a:prstGeom prst="rect">
                <a:avLst/>
              </a:prstGeom>
              <a:blipFill rotWithShape="0">
                <a:blip r:embed="rId3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bject 56"/>
              <p:cNvSpPr/>
              <p:nvPr/>
            </p:nvSpPr>
            <p:spPr>
              <a:xfrm>
                <a:off x="2160720" y="3858480"/>
                <a:ext cx="739440" cy="313560"/>
              </a:xfrm>
              <a:prstGeom prst="rect">
                <a:avLst/>
              </a:prstGeom>
              <a:blipFill rotWithShape="0">
                <a:blip r:embed="rId3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object 57" descr=""/>
              <p:cNvPicPr/>
              <p:nvPr/>
            </p:nvPicPr>
            <p:blipFill>
              <a:blip r:embed="rId36"/>
              <a:stretch/>
            </p:blipFill>
            <p:spPr>
              <a:xfrm>
                <a:off x="1832760" y="3762720"/>
                <a:ext cx="1395360" cy="4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object 58"/>
              <p:cNvSpPr/>
              <p:nvPr/>
            </p:nvSpPr>
            <p:spPr>
              <a:xfrm>
                <a:off x="4218840" y="3763440"/>
                <a:ext cx="1450440" cy="465120"/>
              </a:xfrm>
              <a:prstGeom prst="rect">
                <a:avLst/>
              </a:prstGeom>
              <a:blipFill rotWithShape="0">
                <a:blip r:embed="rId3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bject 59"/>
              <p:cNvSpPr/>
              <p:nvPr/>
            </p:nvSpPr>
            <p:spPr>
              <a:xfrm>
                <a:off x="4573800" y="3858480"/>
                <a:ext cx="739440" cy="313560"/>
              </a:xfrm>
              <a:prstGeom prst="rect">
                <a:avLst/>
              </a:prstGeom>
              <a:blipFill rotWithShape="0">
                <a:blip r:embed="rId3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object 60" descr=""/>
              <p:cNvPicPr/>
              <p:nvPr/>
            </p:nvPicPr>
            <p:blipFill>
              <a:blip r:embed="rId39"/>
              <a:stretch/>
            </p:blipFill>
            <p:spPr>
              <a:xfrm>
                <a:off x="4246200" y="3762720"/>
                <a:ext cx="1395360" cy="4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object 61"/>
              <p:cNvSpPr/>
              <p:nvPr/>
            </p:nvSpPr>
            <p:spPr>
              <a:xfrm>
                <a:off x="3727440" y="3585960"/>
                <a:ext cx="1297800" cy="201240"/>
              </a:xfrm>
              <a:custGeom>
                <a:avLst/>
                <a:gdLst/>
                <a:ahLst/>
                <a:rect l="l" t="t" r="r" b="b"/>
                <a:pathLst>
                  <a:path w="1936750" h="328295">
                    <a:moveTo>
                      <a:pt x="1840102" y="232283"/>
                    </a:moveTo>
                    <a:lnTo>
                      <a:pt x="1834006" y="235838"/>
                    </a:lnTo>
                    <a:lnTo>
                      <a:pt x="1832990" y="239649"/>
                    </a:lnTo>
                    <a:lnTo>
                      <a:pt x="1884679" y="328295"/>
                    </a:lnTo>
                    <a:lnTo>
                      <a:pt x="1892011" y="315722"/>
                    </a:lnTo>
                    <a:lnTo>
                      <a:pt x="1878329" y="315722"/>
                    </a:lnTo>
                    <a:lnTo>
                      <a:pt x="1878329" y="292299"/>
                    </a:lnTo>
                    <a:lnTo>
                      <a:pt x="1843913" y="233299"/>
                    </a:lnTo>
                    <a:lnTo>
                      <a:pt x="1840102" y="232283"/>
                    </a:lnTo>
                    <a:close/>
                  </a:path>
                  <a:path w="1936750" h="328295">
                    <a:moveTo>
                      <a:pt x="1878329" y="292299"/>
                    </a:moveTo>
                    <a:lnTo>
                      <a:pt x="1878329" y="315722"/>
                    </a:lnTo>
                    <a:lnTo>
                      <a:pt x="1891029" y="315722"/>
                    </a:lnTo>
                    <a:lnTo>
                      <a:pt x="1891029" y="312547"/>
                    </a:lnTo>
                    <a:lnTo>
                      <a:pt x="1879218" y="312547"/>
                    </a:lnTo>
                    <a:lnTo>
                      <a:pt x="1884679" y="303185"/>
                    </a:lnTo>
                    <a:lnTo>
                      <a:pt x="1878329" y="292299"/>
                    </a:lnTo>
                    <a:close/>
                  </a:path>
                  <a:path w="1936750" h="328295">
                    <a:moveTo>
                      <a:pt x="1929256" y="232283"/>
                    </a:moveTo>
                    <a:lnTo>
                      <a:pt x="1925446" y="233299"/>
                    </a:lnTo>
                    <a:lnTo>
                      <a:pt x="1891029" y="292299"/>
                    </a:lnTo>
                    <a:lnTo>
                      <a:pt x="1891029" y="315722"/>
                    </a:lnTo>
                    <a:lnTo>
                      <a:pt x="1892011" y="315722"/>
                    </a:lnTo>
                    <a:lnTo>
                      <a:pt x="1936368" y="239649"/>
                    </a:lnTo>
                    <a:lnTo>
                      <a:pt x="1935352" y="235838"/>
                    </a:lnTo>
                    <a:lnTo>
                      <a:pt x="1929256" y="232283"/>
                    </a:lnTo>
                    <a:close/>
                  </a:path>
                  <a:path w="1936750" h="328295">
                    <a:moveTo>
                      <a:pt x="1884679" y="303185"/>
                    </a:moveTo>
                    <a:lnTo>
                      <a:pt x="1879218" y="312547"/>
                    </a:lnTo>
                    <a:lnTo>
                      <a:pt x="1890140" y="312547"/>
                    </a:lnTo>
                    <a:lnTo>
                      <a:pt x="1884679" y="303185"/>
                    </a:lnTo>
                    <a:close/>
                  </a:path>
                  <a:path w="1936750" h="328295">
                    <a:moveTo>
                      <a:pt x="1891029" y="292299"/>
                    </a:moveTo>
                    <a:lnTo>
                      <a:pt x="1884679" y="303185"/>
                    </a:lnTo>
                    <a:lnTo>
                      <a:pt x="1890140" y="312547"/>
                    </a:lnTo>
                    <a:lnTo>
                      <a:pt x="1891029" y="312547"/>
                    </a:lnTo>
                    <a:lnTo>
                      <a:pt x="1891029" y="292299"/>
                    </a:lnTo>
                    <a:close/>
                  </a:path>
                  <a:path w="1936750" h="328295">
                    <a:moveTo>
                      <a:pt x="1878329" y="164211"/>
                    </a:moveTo>
                    <a:lnTo>
                      <a:pt x="1878329" y="292299"/>
                    </a:lnTo>
                    <a:lnTo>
                      <a:pt x="1884679" y="303185"/>
                    </a:lnTo>
                    <a:lnTo>
                      <a:pt x="1891029" y="292299"/>
                    </a:lnTo>
                    <a:lnTo>
                      <a:pt x="1891029" y="170561"/>
                    </a:lnTo>
                    <a:lnTo>
                      <a:pt x="1884679" y="170561"/>
                    </a:lnTo>
                    <a:lnTo>
                      <a:pt x="1878329" y="164211"/>
                    </a:lnTo>
                    <a:close/>
                  </a:path>
                  <a:path w="1936750" h="328295">
                    <a:moveTo>
                      <a:pt x="12700" y="0"/>
                    </a:moveTo>
                    <a:lnTo>
                      <a:pt x="0" y="0"/>
                    </a:lnTo>
                    <a:lnTo>
                      <a:pt x="0" y="167639"/>
                    </a:lnTo>
                    <a:lnTo>
                      <a:pt x="2793" y="170561"/>
                    </a:lnTo>
                    <a:lnTo>
                      <a:pt x="1878329" y="170561"/>
                    </a:lnTo>
                    <a:lnTo>
                      <a:pt x="1878329" y="164211"/>
                    </a:lnTo>
                    <a:lnTo>
                      <a:pt x="12700" y="164211"/>
                    </a:lnTo>
                    <a:lnTo>
                      <a:pt x="6350" y="157861"/>
                    </a:lnTo>
                    <a:lnTo>
                      <a:pt x="12700" y="157861"/>
                    </a:lnTo>
                    <a:lnTo>
                      <a:pt x="12700" y="0"/>
                    </a:lnTo>
                    <a:close/>
                  </a:path>
                  <a:path w="1936750" h="328295">
                    <a:moveTo>
                      <a:pt x="1888235" y="157861"/>
                    </a:moveTo>
                    <a:lnTo>
                      <a:pt x="12700" y="157861"/>
                    </a:lnTo>
                    <a:lnTo>
                      <a:pt x="12700" y="164211"/>
                    </a:lnTo>
                    <a:lnTo>
                      <a:pt x="1878329" y="164211"/>
                    </a:lnTo>
                    <a:lnTo>
                      <a:pt x="1884679" y="170561"/>
                    </a:lnTo>
                    <a:lnTo>
                      <a:pt x="1891029" y="170561"/>
                    </a:lnTo>
                    <a:lnTo>
                      <a:pt x="1891029" y="160655"/>
                    </a:lnTo>
                    <a:lnTo>
                      <a:pt x="1888235" y="157861"/>
                    </a:lnTo>
                    <a:close/>
                  </a:path>
                  <a:path w="1936750" h="328295">
                    <a:moveTo>
                      <a:pt x="12700" y="157861"/>
                    </a:moveTo>
                    <a:lnTo>
                      <a:pt x="6350" y="157861"/>
                    </a:lnTo>
                    <a:lnTo>
                      <a:pt x="12700" y="164211"/>
                    </a:lnTo>
                    <a:lnTo>
                      <a:pt x="12700" y="1578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bject 62"/>
              <p:cNvSpPr/>
              <p:nvPr/>
            </p:nvSpPr>
            <p:spPr>
              <a:xfrm>
                <a:off x="2497320" y="3582000"/>
                <a:ext cx="1237320" cy="201240"/>
              </a:xfrm>
              <a:custGeom>
                <a:avLst/>
                <a:gdLst/>
                <a:ahLst/>
                <a:rect l="l" t="t" r="r" b="b"/>
                <a:pathLst>
                  <a:path w="1917064" h="328295">
                    <a:moveTo>
                      <a:pt x="7112" y="232283"/>
                    </a:moveTo>
                    <a:lnTo>
                      <a:pt x="1015" y="235838"/>
                    </a:lnTo>
                    <a:lnTo>
                      <a:pt x="0" y="239649"/>
                    </a:lnTo>
                    <a:lnTo>
                      <a:pt x="51688" y="328295"/>
                    </a:lnTo>
                    <a:lnTo>
                      <a:pt x="59020" y="315722"/>
                    </a:lnTo>
                    <a:lnTo>
                      <a:pt x="45338" y="315722"/>
                    </a:lnTo>
                    <a:lnTo>
                      <a:pt x="45338" y="292299"/>
                    </a:lnTo>
                    <a:lnTo>
                      <a:pt x="10921" y="233299"/>
                    </a:lnTo>
                    <a:lnTo>
                      <a:pt x="7112" y="232283"/>
                    </a:lnTo>
                    <a:close/>
                  </a:path>
                  <a:path w="1917064" h="328295">
                    <a:moveTo>
                      <a:pt x="45338" y="292299"/>
                    </a:moveTo>
                    <a:lnTo>
                      <a:pt x="45338" y="315722"/>
                    </a:lnTo>
                    <a:lnTo>
                      <a:pt x="58038" y="315722"/>
                    </a:lnTo>
                    <a:lnTo>
                      <a:pt x="58038" y="312547"/>
                    </a:lnTo>
                    <a:lnTo>
                      <a:pt x="46227" y="312547"/>
                    </a:lnTo>
                    <a:lnTo>
                      <a:pt x="51688" y="303185"/>
                    </a:lnTo>
                    <a:lnTo>
                      <a:pt x="45338" y="292299"/>
                    </a:lnTo>
                    <a:close/>
                  </a:path>
                  <a:path w="1917064" h="328295">
                    <a:moveTo>
                      <a:pt x="96265" y="232283"/>
                    </a:moveTo>
                    <a:lnTo>
                      <a:pt x="92456" y="233299"/>
                    </a:lnTo>
                    <a:lnTo>
                      <a:pt x="58038" y="292299"/>
                    </a:lnTo>
                    <a:lnTo>
                      <a:pt x="58038" y="315722"/>
                    </a:lnTo>
                    <a:lnTo>
                      <a:pt x="59020" y="315722"/>
                    </a:lnTo>
                    <a:lnTo>
                      <a:pt x="103377" y="239649"/>
                    </a:lnTo>
                    <a:lnTo>
                      <a:pt x="102362" y="235838"/>
                    </a:lnTo>
                    <a:lnTo>
                      <a:pt x="96265" y="232283"/>
                    </a:lnTo>
                    <a:close/>
                  </a:path>
                  <a:path w="1917064" h="328295">
                    <a:moveTo>
                      <a:pt x="51688" y="303185"/>
                    </a:moveTo>
                    <a:lnTo>
                      <a:pt x="46227" y="312547"/>
                    </a:lnTo>
                    <a:lnTo>
                      <a:pt x="57150" y="312547"/>
                    </a:lnTo>
                    <a:lnTo>
                      <a:pt x="51688" y="303185"/>
                    </a:lnTo>
                    <a:close/>
                  </a:path>
                  <a:path w="1917064" h="328295">
                    <a:moveTo>
                      <a:pt x="58038" y="292299"/>
                    </a:moveTo>
                    <a:lnTo>
                      <a:pt x="51688" y="303185"/>
                    </a:lnTo>
                    <a:lnTo>
                      <a:pt x="57150" y="312547"/>
                    </a:lnTo>
                    <a:lnTo>
                      <a:pt x="58038" y="312547"/>
                    </a:lnTo>
                    <a:lnTo>
                      <a:pt x="58038" y="292299"/>
                    </a:lnTo>
                    <a:close/>
                  </a:path>
                  <a:path w="1917064" h="328295">
                    <a:moveTo>
                      <a:pt x="1903984" y="158114"/>
                    </a:moveTo>
                    <a:lnTo>
                      <a:pt x="48132" y="158114"/>
                    </a:lnTo>
                    <a:lnTo>
                      <a:pt x="45338" y="160909"/>
                    </a:lnTo>
                    <a:lnTo>
                      <a:pt x="45338" y="292299"/>
                    </a:lnTo>
                    <a:lnTo>
                      <a:pt x="51688" y="303185"/>
                    </a:lnTo>
                    <a:lnTo>
                      <a:pt x="58038" y="292299"/>
                    </a:lnTo>
                    <a:lnTo>
                      <a:pt x="58038" y="170814"/>
                    </a:lnTo>
                    <a:lnTo>
                      <a:pt x="51688" y="170814"/>
                    </a:lnTo>
                    <a:lnTo>
                      <a:pt x="58038" y="164464"/>
                    </a:lnTo>
                    <a:lnTo>
                      <a:pt x="1903984" y="164464"/>
                    </a:lnTo>
                    <a:lnTo>
                      <a:pt x="1903984" y="158114"/>
                    </a:lnTo>
                    <a:close/>
                  </a:path>
                  <a:path w="1917064" h="328295">
                    <a:moveTo>
                      <a:pt x="58038" y="164464"/>
                    </a:moveTo>
                    <a:lnTo>
                      <a:pt x="51688" y="170814"/>
                    </a:lnTo>
                    <a:lnTo>
                      <a:pt x="58038" y="170814"/>
                    </a:lnTo>
                    <a:lnTo>
                      <a:pt x="58038" y="164464"/>
                    </a:lnTo>
                    <a:close/>
                  </a:path>
                  <a:path w="1917064" h="328295">
                    <a:moveTo>
                      <a:pt x="1916684" y="158114"/>
                    </a:moveTo>
                    <a:lnTo>
                      <a:pt x="1910334" y="158114"/>
                    </a:lnTo>
                    <a:lnTo>
                      <a:pt x="1903984" y="164464"/>
                    </a:lnTo>
                    <a:lnTo>
                      <a:pt x="58038" y="164464"/>
                    </a:lnTo>
                    <a:lnTo>
                      <a:pt x="58038" y="170814"/>
                    </a:lnTo>
                    <a:lnTo>
                      <a:pt x="1913889" y="170814"/>
                    </a:lnTo>
                    <a:lnTo>
                      <a:pt x="1916684" y="168021"/>
                    </a:lnTo>
                    <a:lnTo>
                      <a:pt x="1916684" y="158114"/>
                    </a:lnTo>
                    <a:close/>
                  </a:path>
                  <a:path w="1917064" h="328295">
                    <a:moveTo>
                      <a:pt x="1916684" y="0"/>
                    </a:moveTo>
                    <a:lnTo>
                      <a:pt x="1903984" y="0"/>
                    </a:lnTo>
                    <a:lnTo>
                      <a:pt x="1903984" y="164464"/>
                    </a:lnTo>
                    <a:lnTo>
                      <a:pt x="1910334" y="158114"/>
                    </a:lnTo>
                    <a:lnTo>
                      <a:pt x="1916684" y="158114"/>
                    </a:lnTo>
                    <a:lnTo>
                      <a:pt x="19166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bject 63"/>
              <p:cNvSpPr/>
              <p:nvPr/>
            </p:nvSpPr>
            <p:spPr>
              <a:xfrm>
                <a:off x="3698280" y="2430360"/>
                <a:ext cx="66600" cy="113760"/>
              </a:xfrm>
              <a:custGeom>
                <a:avLst/>
                <a:gdLst/>
                <a:ahLst/>
                <a:rect l="l" t="t" r="r" b="b"/>
                <a:pathLst>
                  <a:path w="103504" h="186055">
                    <a:moveTo>
                      <a:pt x="6985" y="90169"/>
                    </a:moveTo>
                    <a:lnTo>
                      <a:pt x="888" y="93725"/>
                    </a:lnTo>
                    <a:lnTo>
                      <a:pt x="0" y="97662"/>
                    </a:lnTo>
                    <a:lnTo>
                      <a:pt x="51942" y="186054"/>
                    </a:lnTo>
                    <a:lnTo>
                      <a:pt x="59226" y="173481"/>
                    </a:lnTo>
                    <a:lnTo>
                      <a:pt x="45592" y="173481"/>
                    </a:lnTo>
                    <a:lnTo>
                      <a:pt x="45507" y="150056"/>
                    </a:lnTo>
                    <a:lnTo>
                      <a:pt x="10922" y="91186"/>
                    </a:lnTo>
                    <a:lnTo>
                      <a:pt x="6985" y="90169"/>
                    </a:lnTo>
                    <a:close/>
                  </a:path>
                  <a:path w="103504" h="186055">
                    <a:moveTo>
                      <a:pt x="45507" y="150056"/>
                    </a:moveTo>
                    <a:lnTo>
                      <a:pt x="45592" y="173481"/>
                    </a:lnTo>
                    <a:lnTo>
                      <a:pt x="58292" y="173481"/>
                    </a:lnTo>
                    <a:lnTo>
                      <a:pt x="58281" y="170306"/>
                    </a:lnTo>
                    <a:lnTo>
                      <a:pt x="46354" y="170306"/>
                    </a:lnTo>
                    <a:lnTo>
                      <a:pt x="51840" y="160836"/>
                    </a:lnTo>
                    <a:lnTo>
                      <a:pt x="45507" y="150056"/>
                    </a:lnTo>
                    <a:close/>
                  </a:path>
                  <a:path w="103504" h="186055">
                    <a:moveTo>
                      <a:pt x="96265" y="89915"/>
                    </a:moveTo>
                    <a:lnTo>
                      <a:pt x="92328" y="90931"/>
                    </a:lnTo>
                    <a:lnTo>
                      <a:pt x="58206" y="149845"/>
                    </a:lnTo>
                    <a:lnTo>
                      <a:pt x="58292" y="173481"/>
                    </a:lnTo>
                    <a:lnTo>
                      <a:pt x="59226" y="173481"/>
                    </a:lnTo>
                    <a:lnTo>
                      <a:pt x="103377" y="97281"/>
                    </a:lnTo>
                    <a:lnTo>
                      <a:pt x="102362" y="93344"/>
                    </a:lnTo>
                    <a:lnTo>
                      <a:pt x="99313" y="91693"/>
                    </a:lnTo>
                    <a:lnTo>
                      <a:pt x="96265" y="89915"/>
                    </a:lnTo>
                    <a:close/>
                  </a:path>
                  <a:path w="103504" h="186055">
                    <a:moveTo>
                      <a:pt x="51840" y="160836"/>
                    </a:moveTo>
                    <a:lnTo>
                      <a:pt x="46354" y="170306"/>
                    </a:lnTo>
                    <a:lnTo>
                      <a:pt x="57403" y="170306"/>
                    </a:lnTo>
                    <a:lnTo>
                      <a:pt x="51840" y="160836"/>
                    </a:lnTo>
                    <a:close/>
                  </a:path>
                  <a:path w="103504" h="186055">
                    <a:moveTo>
                      <a:pt x="58206" y="149845"/>
                    </a:moveTo>
                    <a:lnTo>
                      <a:pt x="51840" y="160836"/>
                    </a:lnTo>
                    <a:lnTo>
                      <a:pt x="57403" y="170306"/>
                    </a:lnTo>
                    <a:lnTo>
                      <a:pt x="58281" y="170306"/>
                    </a:lnTo>
                    <a:lnTo>
                      <a:pt x="58206" y="149845"/>
                    </a:lnTo>
                    <a:close/>
                  </a:path>
                  <a:path w="103504" h="186055">
                    <a:moveTo>
                      <a:pt x="57657" y="0"/>
                    </a:moveTo>
                    <a:lnTo>
                      <a:pt x="44957" y="0"/>
                    </a:lnTo>
                    <a:lnTo>
                      <a:pt x="45507" y="150056"/>
                    </a:lnTo>
                    <a:lnTo>
                      <a:pt x="51840" y="160836"/>
                    </a:lnTo>
                    <a:lnTo>
                      <a:pt x="58206" y="149845"/>
                    </a:lnTo>
                    <a:lnTo>
                      <a:pt x="576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bject 64"/>
              <p:cNvSpPr/>
              <p:nvPr/>
            </p:nvSpPr>
            <p:spPr>
              <a:xfrm>
                <a:off x="3698280" y="2764800"/>
                <a:ext cx="66600" cy="94320"/>
              </a:xfrm>
              <a:custGeom>
                <a:avLst/>
                <a:gdLst/>
                <a:ahLst/>
                <a:rect l="l" t="t" r="r" b="b"/>
                <a:pathLst>
                  <a:path w="103504" h="154305">
                    <a:moveTo>
                      <a:pt x="7112" y="57912"/>
                    </a:moveTo>
                    <a:lnTo>
                      <a:pt x="4063" y="59689"/>
                    </a:lnTo>
                    <a:lnTo>
                      <a:pt x="1016" y="61340"/>
                    </a:lnTo>
                    <a:lnTo>
                      <a:pt x="0" y="65277"/>
                    </a:lnTo>
                    <a:lnTo>
                      <a:pt x="1650" y="68325"/>
                    </a:lnTo>
                    <a:lnTo>
                      <a:pt x="50926" y="154304"/>
                    </a:lnTo>
                    <a:lnTo>
                      <a:pt x="58403" y="141732"/>
                    </a:lnTo>
                    <a:lnTo>
                      <a:pt x="44704" y="141732"/>
                    </a:lnTo>
                    <a:lnTo>
                      <a:pt x="44893" y="118244"/>
                    </a:lnTo>
                    <a:lnTo>
                      <a:pt x="12700" y="61975"/>
                    </a:lnTo>
                    <a:lnTo>
                      <a:pt x="10922" y="58927"/>
                    </a:lnTo>
                    <a:lnTo>
                      <a:pt x="7112" y="57912"/>
                    </a:lnTo>
                    <a:close/>
                  </a:path>
                  <a:path w="103504" h="154305">
                    <a:moveTo>
                      <a:pt x="44893" y="118244"/>
                    </a:moveTo>
                    <a:lnTo>
                      <a:pt x="44704" y="141732"/>
                    </a:lnTo>
                    <a:lnTo>
                      <a:pt x="57404" y="141732"/>
                    </a:lnTo>
                    <a:lnTo>
                      <a:pt x="57429" y="138557"/>
                    </a:lnTo>
                    <a:lnTo>
                      <a:pt x="45593" y="138429"/>
                    </a:lnTo>
                    <a:lnTo>
                      <a:pt x="51122" y="129131"/>
                    </a:lnTo>
                    <a:lnTo>
                      <a:pt x="44893" y="118244"/>
                    </a:lnTo>
                    <a:close/>
                  </a:path>
                  <a:path w="103504" h="154305">
                    <a:moveTo>
                      <a:pt x="96393" y="58674"/>
                    </a:moveTo>
                    <a:lnTo>
                      <a:pt x="92456" y="59689"/>
                    </a:lnTo>
                    <a:lnTo>
                      <a:pt x="90678" y="62611"/>
                    </a:lnTo>
                    <a:lnTo>
                      <a:pt x="57596" y="118244"/>
                    </a:lnTo>
                    <a:lnTo>
                      <a:pt x="57404" y="141732"/>
                    </a:lnTo>
                    <a:lnTo>
                      <a:pt x="58403" y="141732"/>
                    </a:lnTo>
                    <a:lnTo>
                      <a:pt x="101600" y="69087"/>
                    </a:lnTo>
                    <a:lnTo>
                      <a:pt x="103378" y="66166"/>
                    </a:lnTo>
                    <a:lnTo>
                      <a:pt x="102362" y="62229"/>
                    </a:lnTo>
                    <a:lnTo>
                      <a:pt x="99313" y="60451"/>
                    </a:lnTo>
                    <a:lnTo>
                      <a:pt x="96393" y="58674"/>
                    </a:lnTo>
                    <a:close/>
                  </a:path>
                  <a:path w="103504" h="154305">
                    <a:moveTo>
                      <a:pt x="51122" y="129131"/>
                    </a:moveTo>
                    <a:lnTo>
                      <a:pt x="45593" y="138429"/>
                    </a:lnTo>
                    <a:lnTo>
                      <a:pt x="56515" y="138557"/>
                    </a:lnTo>
                    <a:lnTo>
                      <a:pt x="51122" y="129131"/>
                    </a:lnTo>
                    <a:close/>
                  </a:path>
                  <a:path w="103504" h="154305">
                    <a:moveTo>
                      <a:pt x="57593" y="118249"/>
                    </a:moveTo>
                    <a:lnTo>
                      <a:pt x="51122" y="129131"/>
                    </a:lnTo>
                    <a:lnTo>
                      <a:pt x="56515" y="138557"/>
                    </a:lnTo>
                    <a:lnTo>
                      <a:pt x="57429" y="138557"/>
                    </a:lnTo>
                    <a:lnTo>
                      <a:pt x="57593" y="118249"/>
                    </a:lnTo>
                    <a:close/>
                  </a:path>
                  <a:path w="103504" h="154305">
                    <a:moveTo>
                      <a:pt x="58547" y="0"/>
                    </a:moveTo>
                    <a:lnTo>
                      <a:pt x="45847" y="0"/>
                    </a:lnTo>
                    <a:lnTo>
                      <a:pt x="44896" y="118249"/>
                    </a:lnTo>
                    <a:lnTo>
                      <a:pt x="51122" y="129131"/>
                    </a:lnTo>
                    <a:lnTo>
                      <a:pt x="57593" y="118244"/>
                    </a:lnTo>
                    <a:lnTo>
                      <a:pt x="585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bject 65"/>
              <p:cNvSpPr/>
              <p:nvPr/>
            </p:nvSpPr>
            <p:spPr>
              <a:xfrm>
                <a:off x="3697200" y="3272760"/>
                <a:ext cx="66600" cy="101160"/>
              </a:xfrm>
              <a:custGeom>
                <a:avLst/>
                <a:gdLst/>
                <a:ahLst/>
                <a:rect l="l" t="t" r="r" b="b"/>
                <a:pathLst>
                  <a:path w="103504" h="165100">
                    <a:moveTo>
                      <a:pt x="7112" y="68961"/>
                    </a:moveTo>
                    <a:lnTo>
                      <a:pt x="4063" y="70612"/>
                    </a:lnTo>
                    <a:lnTo>
                      <a:pt x="1015" y="72389"/>
                    </a:lnTo>
                    <a:lnTo>
                      <a:pt x="0" y="76326"/>
                    </a:lnTo>
                    <a:lnTo>
                      <a:pt x="1650" y="79375"/>
                    </a:lnTo>
                    <a:lnTo>
                      <a:pt x="51308" y="165100"/>
                    </a:lnTo>
                    <a:lnTo>
                      <a:pt x="58717" y="152526"/>
                    </a:lnTo>
                    <a:lnTo>
                      <a:pt x="44958" y="152526"/>
                    </a:lnTo>
                    <a:lnTo>
                      <a:pt x="45056" y="128910"/>
                    </a:lnTo>
                    <a:lnTo>
                      <a:pt x="10922" y="69976"/>
                    </a:lnTo>
                    <a:lnTo>
                      <a:pt x="7112" y="68961"/>
                    </a:lnTo>
                    <a:close/>
                  </a:path>
                  <a:path w="103504" h="165100">
                    <a:moveTo>
                      <a:pt x="45056" y="128910"/>
                    </a:moveTo>
                    <a:lnTo>
                      <a:pt x="44958" y="152526"/>
                    </a:lnTo>
                    <a:lnTo>
                      <a:pt x="57658" y="152526"/>
                    </a:lnTo>
                    <a:lnTo>
                      <a:pt x="57671" y="149351"/>
                    </a:lnTo>
                    <a:lnTo>
                      <a:pt x="45847" y="149351"/>
                    </a:lnTo>
                    <a:lnTo>
                      <a:pt x="51419" y="139896"/>
                    </a:lnTo>
                    <a:lnTo>
                      <a:pt x="45056" y="128910"/>
                    </a:lnTo>
                    <a:close/>
                  </a:path>
                  <a:path w="103504" h="165100">
                    <a:moveTo>
                      <a:pt x="96265" y="69214"/>
                    </a:moveTo>
                    <a:lnTo>
                      <a:pt x="92455" y="70230"/>
                    </a:lnTo>
                    <a:lnTo>
                      <a:pt x="90677" y="73278"/>
                    </a:lnTo>
                    <a:lnTo>
                      <a:pt x="57755" y="129144"/>
                    </a:lnTo>
                    <a:lnTo>
                      <a:pt x="57658" y="152526"/>
                    </a:lnTo>
                    <a:lnTo>
                      <a:pt x="58717" y="152526"/>
                    </a:lnTo>
                    <a:lnTo>
                      <a:pt x="101600" y="79755"/>
                    </a:lnTo>
                    <a:lnTo>
                      <a:pt x="103377" y="76707"/>
                    </a:lnTo>
                    <a:lnTo>
                      <a:pt x="102362" y="72770"/>
                    </a:lnTo>
                    <a:lnTo>
                      <a:pt x="96265" y="69214"/>
                    </a:lnTo>
                    <a:close/>
                  </a:path>
                  <a:path w="103504" h="165100">
                    <a:moveTo>
                      <a:pt x="51419" y="139896"/>
                    </a:moveTo>
                    <a:lnTo>
                      <a:pt x="45847" y="149351"/>
                    </a:lnTo>
                    <a:lnTo>
                      <a:pt x="56896" y="149351"/>
                    </a:lnTo>
                    <a:lnTo>
                      <a:pt x="51419" y="139896"/>
                    </a:lnTo>
                    <a:close/>
                  </a:path>
                  <a:path w="103504" h="165100">
                    <a:moveTo>
                      <a:pt x="57755" y="129144"/>
                    </a:moveTo>
                    <a:lnTo>
                      <a:pt x="51419" y="139896"/>
                    </a:lnTo>
                    <a:lnTo>
                      <a:pt x="56896" y="149351"/>
                    </a:lnTo>
                    <a:lnTo>
                      <a:pt x="57671" y="149351"/>
                    </a:lnTo>
                    <a:lnTo>
                      <a:pt x="57755" y="129144"/>
                    </a:lnTo>
                    <a:close/>
                  </a:path>
                  <a:path w="103504" h="165100">
                    <a:moveTo>
                      <a:pt x="58292" y="0"/>
                    </a:moveTo>
                    <a:lnTo>
                      <a:pt x="45592" y="0"/>
                    </a:lnTo>
                    <a:lnTo>
                      <a:pt x="45056" y="128910"/>
                    </a:lnTo>
                    <a:lnTo>
                      <a:pt x="51419" y="139896"/>
                    </a:lnTo>
                    <a:lnTo>
                      <a:pt x="57755" y="129144"/>
                    </a:lnTo>
                    <a:lnTo>
                      <a:pt x="58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bject 66"/>
              <p:cNvSpPr/>
              <p:nvPr/>
            </p:nvSpPr>
            <p:spPr>
              <a:xfrm>
                <a:off x="4544280" y="3028320"/>
                <a:ext cx="891720" cy="63360"/>
              </a:xfrm>
              <a:custGeom>
                <a:avLst/>
                <a:gdLst/>
                <a:ahLst/>
                <a:rect l="l" t="t" r="r" b="b"/>
                <a:pathLst>
                  <a:path w="1381125" h="103505">
                    <a:moveTo>
                      <a:pt x="1370266" y="44830"/>
                    </a:moveTo>
                    <a:lnTo>
                      <a:pt x="1368552" y="44830"/>
                    </a:lnTo>
                    <a:lnTo>
                      <a:pt x="1368552" y="57530"/>
                    </a:lnTo>
                    <a:lnTo>
                      <a:pt x="1345040" y="57703"/>
                    </a:lnTo>
                    <a:lnTo>
                      <a:pt x="1286383" y="92455"/>
                    </a:lnTo>
                    <a:lnTo>
                      <a:pt x="1285367" y="96392"/>
                    </a:lnTo>
                    <a:lnTo>
                      <a:pt x="1287272" y="99440"/>
                    </a:lnTo>
                    <a:lnTo>
                      <a:pt x="1289050" y="102362"/>
                    </a:lnTo>
                    <a:lnTo>
                      <a:pt x="1292860" y="103377"/>
                    </a:lnTo>
                    <a:lnTo>
                      <a:pt x="1381125" y="51053"/>
                    </a:lnTo>
                    <a:lnTo>
                      <a:pt x="1370266" y="44830"/>
                    </a:lnTo>
                    <a:close/>
                  </a:path>
                  <a:path w="1381125" h="103505">
                    <a:moveTo>
                      <a:pt x="1345068" y="45003"/>
                    </a:moveTo>
                    <a:lnTo>
                      <a:pt x="0" y="54863"/>
                    </a:lnTo>
                    <a:lnTo>
                      <a:pt x="0" y="67563"/>
                    </a:lnTo>
                    <a:lnTo>
                      <a:pt x="1345040" y="57703"/>
                    </a:lnTo>
                    <a:lnTo>
                      <a:pt x="1355945" y="51237"/>
                    </a:lnTo>
                    <a:lnTo>
                      <a:pt x="1345068" y="45003"/>
                    </a:lnTo>
                    <a:close/>
                  </a:path>
                  <a:path w="1381125" h="103505">
                    <a:moveTo>
                      <a:pt x="1355945" y="51237"/>
                    </a:moveTo>
                    <a:lnTo>
                      <a:pt x="1345040" y="57703"/>
                    </a:lnTo>
                    <a:lnTo>
                      <a:pt x="1368552" y="57530"/>
                    </a:lnTo>
                    <a:lnTo>
                      <a:pt x="1368552" y="56641"/>
                    </a:lnTo>
                    <a:lnTo>
                      <a:pt x="1365377" y="56641"/>
                    </a:lnTo>
                    <a:lnTo>
                      <a:pt x="1355945" y="51237"/>
                    </a:lnTo>
                    <a:close/>
                  </a:path>
                  <a:path w="1381125" h="103505">
                    <a:moveTo>
                      <a:pt x="1365250" y="45719"/>
                    </a:moveTo>
                    <a:lnTo>
                      <a:pt x="1355945" y="51237"/>
                    </a:lnTo>
                    <a:lnTo>
                      <a:pt x="1365377" y="56641"/>
                    </a:lnTo>
                    <a:lnTo>
                      <a:pt x="1365250" y="45719"/>
                    </a:lnTo>
                    <a:close/>
                  </a:path>
                  <a:path w="1381125" h="103505">
                    <a:moveTo>
                      <a:pt x="1368552" y="45719"/>
                    </a:moveTo>
                    <a:lnTo>
                      <a:pt x="1365250" y="45719"/>
                    </a:lnTo>
                    <a:lnTo>
                      <a:pt x="1365377" y="56641"/>
                    </a:lnTo>
                    <a:lnTo>
                      <a:pt x="1368552" y="56641"/>
                    </a:lnTo>
                    <a:lnTo>
                      <a:pt x="1368552" y="45719"/>
                    </a:lnTo>
                    <a:close/>
                  </a:path>
                  <a:path w="1381125" h="103505">
                    <a:moveTo>
                      <a:pt x="1368552" y="44830"/>
                    </a:moveTo>
                    <a:lnTo>
                      <a:pt x="1345068" y="45003"/>
                    </a:lnTo>
                    <a:lnTo>
                      <a:pt x="1355945" y="51237"/>
                    </a:lnTo>
                    <a:lnTo>
                      <a:pt x="1365250" y="45719"/>
                    </a:lnTo>
                    <a:lnTo>
                      <a:pt x="1368552" y="45719"/>
                    </a:lnTo>
                    <a:lnTo>
                      <a:pt x="1368552" y="44830"/>
                    </a:lnTo>
                    <a:close/>
                  </a:path>
                  <a:path w="1381125" h="103505">
                    <a:moveTo>
                      <a:pt x="1292098" y="0"/>
                    </a:moveTo>
                    <a:lnTo>
                      <a:pt x="1288288" y="1015"/>
                    </a:lnTo>
                    <a:lnTo>
                      <a:pt x="1284732" y="7112"/>
                    </a:lnTo>
                    <a:lnTo>
                      <a:pt x="1285875" y="11048"/>
                    </a:lnTo>
                    <a:lnTo>
                      <a:pt x="1288923" y="12826"/>
                    </a:lnTo>
                    <a:lnTo>
                      <a:pt x="1345068" y="45003"/>
                    </a:lnTo>
                    <a:lnTo>
                      <a:pt x="1370266" y="44830"/>
                    </a:lnTo>
                    <a:lnTo>
                      <a:pt x="1295146" y="1777"/>
                    </a:lnTo>
                    <a:lnTo>
                      <a:pt x="12920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bject 67"/>
              <p:cNvSpPr/>
              <p:nvPr/>
            </p:nvSpPr>
            <p:spPr>
              <a:xfrm>
                <a:off x="6100560" y="2430360"/>
                <a:ext cx="66600" cy="525600"/>
              </a:xfrm>
              <a:custGeom>
                <a:avLst/>
                <a:gdLst/>
                <a:ahLst/>
                <a:rect l="l" t="t" r="r" b="b"/>
                <a:pathLst>
                  <a:path w="103504" h="857250">
                    <a:moveTo>
                      <a:pt x="51689" y="25109"/>
                    </a:moveTo>
                    <a:lnTo>
                      <a:pt x="45339" y="35995"/>
                    </a:lnTo>
                    <a:lnTo>
                      <a:pt x="45339" y="857250"/>
                    </a:lnTo>
                    <a:lnTo>
                      <a:pt x="58039" y="857250"/>
                    </a:lnTo>
                    <a:lnTo>
                      <a:pt x="58039" y="35995"/>
                    </a:lnTo>
                    <a:lnTo>
                      <a:pt x="51689" y="25109"/>
                    </a:lnTo>
                    <a:close/>
                  </a:path>
                  <a:path w="103504" h="857250">
                    <a:moveTo>
                      <a:pt x="51689" y="0"/>
                    </a:moveTo>
                    <a:lnTo>
                      <a:pt x="0" y="88645"/>
                    </a:lnTo>
                    <a:lnTo>
                      <a:pt x="1016" y="92455"/>
                    </a:lnTo>
                    <a:lnTo>
                      <a:pt x="7112" y="96012"/>
                    </a:lnTo>
                    <a:lnTo>
                      <a:pt x="10922" y="94995"/>
                    </a:lnTo>
                    <a:lnTo>
                      <a:pt x="45339" y="35995"/>
                    </a:lnTo>
                    <a:lnTo>
                      <a:pt x="45339" y="12573"/>
                    </a:lnTo>
                    <a:lnTo>
                      <a:pt x="59020" y="12573"/>
                    </a:lnTo>
                    <a:lnTo>
                      <a:pt x="51689" y="0"/>
                    </a:lnTo>
                    <a:close/>
                  </a:path>
                  <a:path w="103504" h="857250">
                    <a:moveTo>
                      <a:pt x="59020" y="12573"/>
                    </a:moveTo>
                    <a:lnTo>
                      <a:pt x="58039" y="12573"/>
                    </a:lnTo>
                    <a:lnTo>
                      <a:pt x="58039" y="35995"/>
                    </a:lnTo>
                    <a:lnTo>
                      <a:pt x="92455" y="94995"/>
                    </a:lnTo>
                    <a:lnTo>
                      <a:pt x="96266" y="96012"/>
                    </a:lnTo>
                    <a:lnTo>
                      <a:pt x="102362" y="92455"/>
                    </a:lnTo>
                    <a:lnTo>
                      <a:pt x="103377" y="88645"/>
                    </a:lnTo>
                    <a:lnTo>
                      <a:pt x="59020" y="12573"/>
                    </a:lnTo>
                    <a:close/>
                  </a:path>
                  <a:path w="103504" h="857250">
                    <a:moveTo>
                      <a:pt x="58039" y="12573"/>
                    </a:moveTo>
                    <a:lnTo>
                      <a:pt x="45339" y="12573"/>
                    </a:lnTo>
                    <a:lnTo>
                      <a:pt x="45339" y="35995"/>
                    </a:lnTo>
                    <a:lnTo>
                      <a:pt x="51688" y="25109"/>
                    </a:lnTo>
                    <a:lnTo>
                      <a:pt x="46227" y="15748"/>
                    </a:lnTo>
                    <a:lnTo>
                      <a:pt x="58039" y="15748"/>
                    </a:lnTo>
                    <a:lnTo>
                      <a:pt x="58039" y="12573"/>
                    </a:lnTo>
                    <a:close/>
                  </a:path>
                  <a:path w="103504" h="857250">
                    <a:moveTo>
                      <a:pt x="58039" y="15748"/>
                    </a:moveTo>
                    <a:lnTo>
                      <a:pt x="57150" y="15748"/>
                    </a:lnTo>
                    <a:lnTo>
                      <a:pt x="51689" y="25109"/>
                    </a:lnTo>
                    <a:lnTo>
                      <a:pt x="58039" y="35995"/>
                    </a:lnTo>
                    <a:lnTo>
                      <a:pt x="58039" y="15748"/>
                    </a:lnTo>
                    <a:close/>
                  </a:path>
                  <a:path w="103504" h="857250">
                    <a:moveTo>
                      <a:pt x="57150" y="15748"/>
                    </a:moveTo>
                    <a:lnTo>
                      <a:pt x="46227" y="15748"/>
                    </a:lnTo>
                    <a:lnTo>
                      <a:pt x="51689" y="25109"/>
                    </a:lnTo>
                    <a:lnTo>
                      <a:pt x="57150" y="157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bject 68"/>
              <p:cNvSpPr/>
              <p:nvPr/>
            </p:nvSpPr>
            <p:spPr>
              <a:xfrm>
                <a:off x="4894560" y="2288880"/>
                <a:ext cx="541440" cy="63360"/>
              </a:xfrm>
              <a:custGeom>
                <a:avLst/>
                <a:gdLst/>
                <a:ahLst/>
                <a:rect l="l" t="t" r="r" b="b"/>
                <a:pathLst>
                  <a:path w="839470" h="103505">
                    <a:moveTo>
                      <a:pt x="88646" y="0"/>
                    </a:moveTo>
                    <a:lnTo>
                      <a:pt x="0" y="51688"/>
                    </a:lnTo>
                    <a:lnTo>
                      <a:pt x="88646" y="103377"/>
                    </a:lnTo>
                    <a:lnTo>
                      <a:pt x="92455" y="102362"/>
                    </a:lnTo>
                    <a:lnTo>
                      <a:pt x="96012" y="96265"/>
                    </a:lnTo>
                    <a:lnTo>
                      <a:pt x="94996" y="92456"/>
                    </a:lnTo>
                    <a:lnTo>
                      <a:pt x="35995" y="58038"/>
                    </a:lnTo>
                    <a:lnTo>
                      <a:pt x="12573" y="58038"/>
                    </a:lnTo>
                    <a:lnTo>
                      <a:pt x="12573" y="45338"/>
                    </a:lnTo>
                    <a:lnTo>
                      <a:pt x="35995" y="45338"/>
                    </a:lnTo>
                    <a:lnTo>
                      <a:pt x="94996" y="10922"/>
                    </a:lnTo>
                    <a:lnTo>
                      <a:pt x="96012" y="7112"/>
                    </a:lnTo>
                    <a:lnTo>
                      <a:pt x="92455" y="1015"/>
                    </a:lnTo>
                    <a:lnTo>
                      <a:pt x="88646" y="0"/>
                    </a:lnTo>
                    <a:close/>
                  </a:path>
                  <a:path w="839470" h="103505">
                    <a:moveTo>
                      <a:pt x="35995" y="45338"/>
                    </a:moveTo>
                    <a:lnTo>
                      <a:pt x="12573" y="45338"/>
                    </a:lnTo>
                    <a:lnTo>
                      <a:pt x="12573" y="58038"/>
                    </a:lnTo>
                    <a:lnTo>
                      <a:pt x="35995" y="58038"/>
                    </a:lnTo>
                    <a:lnTo>
                      <a:pt x="34471" y="57150"/>
                    </a:lnTo>
                    <a:lnTo>
                      <a:pt x="15748" y="57150"/>
                    </a:lnTo>
                    <a:lnTo>
                      <a:pt x="15748" y="46227"/>
                    </a:lnTo>
                    <a:lnTo>
                      <a:pt x="34471" y="46227"/>
                    </a:lnTo>
                    <a:lnTo>
                      <a:pt x="35995" y="45338"/>
                    </a:lnTo>
                    <a:close/>
                  </a:path>
                  <a:path w="839470" h="103505">
                    <a:moveTo>
                      <a:pt x="839470" y="45338"/>
                    </a:moveTo>
                    <a:lnTo>
                      <a:pt x="35995" y="45338"/>
                    </a:lnTo>
                    <a:lnTo>
                      <a:pt x="25109" y="51688"/>
                    </a:lnTo>
                    <a:lnTo>
                      <a:pt x="35995" y="58038"/>
                    </a:lnTo>
                    <a:lnTo>
                      <a:pt x="839470" y="58038"/>
                    </a:lnTo>
                    <a:lnTo>
                      <a:pt x="839470" y="45338"/>
                    </a:lnTo>
                    <a:close/>
                  </a:path>
                  <a:path w="839470" h="103505">
                    <a:moveTo>
                      <a:pt x="15748" y="46227"/>
                    </a:moveTo>
                    <a:lnTo>
                      <a:pt x="15748" y="57150"/>
                    </a:lnTo>
                    <a:lnTo>
                      <a:pt x="25109" y="51688"/>
                    </a:lnTo>
                    <a:lnTo>
                      <a:pt x="15748" y="46227"/>
                    </a:lnTo>
                    <a:close/>
                  </a:path>
                  <a:path w="839470" h="103505">
                    <a:moveTo>
                      <a:pt x="25109" y="51688"/>
                    </a:moveTo>
                    <a:lnTo>
                      <a:pt x="15748" y="57150"/>
                    </a:lnTo>
                    <a:lnTo>
                      <a:pt x="34471" y="57150"/>
                    </a:lnTo>
                    <a:lnTo>
                      <a:pt x="25109" y="51688"/>
                    </a:lnTo>
                    <a:close/>
                  </a:path>
                  <a:path w="839470" h="103505">
                    <a:moveTo>
                      <a:pt x="34471" y="46227"/>
                    </a:moveTo>
                    <a:lnTo>
                      <a:pt x="15748" y="46227"/>
                    </a:lnTo>
                    <a:lnTo>
                      <a:pt x="25109" y="51688"/>
                    </a:lnTo>
                    <a:lnTo>
                      <a:pt x="34471" y="46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bject 69"/>
              <p:cNvSpPr/>
              <p:nvPr/>
            </p:nvSpPr>
            <p:spPr>
              <a:xfrm>
                <a:off x="3227400" y="3958560"/>
                <a:ext cx="1018080" cy="63360"/>
              </a:xfrm>
              <a:custGeom>
                <a:avLst/>
                <a:gdLst/>
                <a:ahLst/>
                <a:rect l="l" t="t" r="r" b="b"/>
                <a:pathLst>
                  <a:path w="1576704" h="103504">
                    <a:moveTo>
                      <a:pt x="88645" y="0"/>
                    </a:moveTo>
                    <a:lnTo>
                      <a:pt x="0" y="51688"/>
                    </a:lnTo>
                    <a:lnTo>
                      <a:pt x="88645" y="103378"/>
                    </a:lnTo>
                    <a:lnTo>
                      <a:pt x="92456" y="102362"/>
                    </a:lnTo>
                    <a:lnTo>
                      <a:pt x="96012" y="96266"/>
                    </a:lnTo>
                    <a:lnTo>
                      <a:pt x="94995" y="92456"/>
                    </a:lnTo>
                    <a:lnTo>
                      <a:pt x="35995" y="58038"/>
                    </a:lnTo>
                    <a:lnTo>
                      <a:pt x="12573" y="58038"/>
                    </a:lnTo>
                    <a:lnTo>
                      <a:pt x="12573" y="45338"/>
                    </a:lnTo>
                    <a:lnTo>
                      <a:pt x="35995" y="45338"/>
                    </a:lnTo>
                    <a:lnTo>
                      <a:pt x="94995" y="10922"/>
                    </a:lnTo>
                    <a:lnTo>
                      <a:pt x="96012" y="7112"/>
                    </a:lnTo>
                    <a:lnTo>
                      <a:pt x="92456" y="1016"/>
                    </a:lnTo>
                    <a:lnTo>
                      <a:pt x="88645" y="0"/>
                    </a:lnTo>
                    <a:close/>
                  </a:path>
                  <a:path w="1576704" h="103504">
                    <a:moveTo>
                      <a:pt x="35995" y="45338"/>
                    </a:moveTo>
                    <a:lnTo>
                      <a:pt x="12573" y="45338"/>
                    </a:lnTo>
                    <a:lnTo>
                      <a:pt x="12573" y="58038"/>
                    </a:lnTo>
                    <a:lnTo>
                      <a:pt x="35995" y="58038"/>
                    </a:lnTo>
                    <a:lnTo>
                      <a:pt x="34471" y="57150"/>
                    </a:lnTo>
                    <a:lnTo>
                      <a:pt x="15748" y="57150"/>
                    </a:lnTo>
                    <a:lnTo>
                      <a:pt x="15748" y="46228"/>
                    </a:lnTo>
                    <a:lnTo>
                      <a:pt x="34471" y="46228"/>
                    </a:lnTo>
                    <a:lnTo>
                      <a:pt x="35995" y="45338"/>
                    </a:lnTo>
                    <a:close/>
                  </a:path>
                  <a:path w="1576704" h="103504">
                    <a:moveTo>
                      <a:pt x="1576705" y="45338"/>
                    </a:moveTo>
                    <a:lnTo>
                      <a:pt x="35995" y="45338"/>
                    </a:lnTo>
                    <a:lnTo>
                      <a:pt x="25109" y="51688"/>
                    </a:lnTo>
                    <a:lnTo>
                      <a:pt x="35995" y="58038"/>
                    </a:lnTo>
                    <a:lnTo>
                      <a:pt x="1576705" y="58038"/>
                    </a:lnTo>
                    <a:lnTo>
                      <a:pt x="1576705" y="45338"/>
                    </a:lnTo>
                    <a:close/>
                  </a:path>
                  <a:path w="1576704" h="103504">
                    <a:moveTo>
                      <a:pt x="15748" y="46228"/>
                    </a:moveTo>
                    <a:lnTo>
                      <a:pt x="15748" y="57150"/>
                    </a:lnTo>
                    <a:lnTo>
                      <a:pt x="25109" y="51689"/>
                    </a:lnTo>
                    <a:lnTo>
                      <a:pt x="15748" y="46228"/>
                    </a:lnTo>
                    <a:close/>
                  </a:path>
                  <a:path w="1576704" h="103504">
                    <a:moveTo>
                      <a:pt x="25109" y="51688"/>
                    </a:moveTo>
                    <a:lnTo>
                      <a:pt x="15748" y="57150"/>
                    </a:lnTo>
                    <a:lnTo>
                      <a:pt x="34471" y="57150"/>
                    </a:lnTo>
                    <a:lnTo>
                      <a:pt x="25109" y="51688"/>
                    </a:lnTo>
                    <a:close/>
                  </a:path>
                  <a:path w="1576704" h="103504">
                    <a:moveTo>
                      <a:pt x="34471" y="46228"/>
                    </a:moveTo>
                    <a:lnTo>
                      <a:pt x="15748" y="46228"/>
                    </a:lnTo>
                    <a:lnTo>
                      <a:pt x="25109" y="51688"/>
                    </a:lnTo>
                    <a:lnTo>
                      <a:pt x="34471" y="46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bject 70"/>
              <p:cNvSpPr/>
              <p:nvPr/>
            </p:nvSpPr>
            <p:spPr>
              <a:xfrm>
                <a:off x="4910400" y="4196880"/>
                <a:ext cx="66600" cy="835200"/>
              </a:xfrm>
              <a:custGeom>
                <a:avLst/>
                <a:gdLst/>
                <a:ahLst/>
                <a:rect l="l" t="t" r="r" b="b"/>
                <a:pathLst>
                  <a:path w="103504" h="1362075">
                    <a:moveTo>
                      <a:pt x="7112" y="1266062"/>
                    </a:moveTo>
                    <a:lnTo>
                      <a:pt x="1015" y="1269618"/>
                    </a:lnTo>
                    <a:lnTo>
                      <a:pt x="0" y="1273428"/>
                    </a:lnTo>
                    <a:lnTo>
                      <a:pt x="51688" y="1362074"/>
                    </a:lnTo>
                    <a:lnTo>
                      <a:pt x="59020" y="1349501"/>
                    </a:lnTo>
                    <a:lnTo>
                      <a:pt x="45338" y="1349501"/>
                    </a:lnTo>
                    <a:lnTo>
                      <a:pt x="45338" y="1326079"/>
                    </a:lnTo>
                    <a:lnTo>
                      <a:pt x="10922" y="1267078"/>
                    </a:lnTo>
                    <a:lnTo>
                      <a:pt x="7112" y="1266062"/>
                    </a:lnTo>
                    <a:close/>
                  </a:path>
                  <a:path w="103504" h="1362075">
                    <a:moveTo>
                      <a:pt x="45338" y="1326079"/>
                    </a:moveTo>
                    <a:lnTo>
                      <a:pt x="45338" y="1349501"/>
                    </a:lnTo>
                    <a:lnTo>
                      <a:pt x="58038" y="1349501"/>
                    </a:lnTo>
                    <a:lnTo>
                      <a:pt x="58038" y="1346326"/>
                    </a:lnTo>
                    <a:lnTo>
                      <a:pt x="46227" y="1346326"/>
                    </a:lnTo>
                    <a:lnTo>
                      <a:pt x="51688" y="1336965"/>
                    </a:lnTo>
                    <a:lnTo>
                      <a:pt x="45338" y="1326079"/>
                    </a:lnTo>
                    <a:close/>
                  </a:path>
                  <a:path w="103504" h="1362075">
                    <a:moveTo>
                      <a:pt x="96265" y="1266062"/>
                    </a:moveTo>
                    <a:lnTo>
                      <a:pt x="92455" y="1267078"/>
                    </a:lnTo>
                    <a:lnTo>
                      <a:pt x="58038" y="1326079"/>
                    </a:lnTo>
                    <a:lnTo>
                      <a:pt x="58038" y="1349501"/>
                    </a:lnTo>
                    <a:lnTo>
                      <a:pt x="59020" y="1349501"/>
                    </a:lnTo>
                    <a:lnTo>
                      <a:pt x="103377" y="1273428"/>
                    </a:lnTo>
                    <a:lnTo>
                      <a:pt x="102362" y="1269618"/>
                    </a:lnTo>
                    <a:lnTo>
                      <a:pt x="96265" y="1266062"/>
                    </a:lnTo>
                    <a:close/>
                  </a:path>
                  <a:path w="103504" h="1362075">
                    <a:moveTo>
                      <a:pt x="51688" y="1336965"/>
                    </a:moveTo>
                    <a:lnTo>
                      <a:pt x="46227" y="1346326"/>
                    </a:lnTo>
                    <a:lnTo>
                      <a:pt x="57150" y="1346326"/>
                    </a:lnTo>
                    <a:lnTo>
                      <a:pt x="51688" y="1336965"/>
                    </a:lnTo>
                    <a:close/>
                  </a:path>
                  <a:path w="103504" h="1362075">
                    <a:moveTo>
                      <a:pt x="58038" y="1326079"/>
                    </a:moveTo>
                    <a:lnTo>
                      <a:pt x="51688" y="1336965"/>
                    </a:lnTo>
                    <a:lnTo>
                      <a:pt x="57150" y="1346326"/>
                    </a:lnTo>
                    <a:lnTo>
                      <a:pt x="58038" y="1346326"/>
                    </a:lnTo>
                    <a:lnTo>
                      <a:pt x="58038" y="1326079"/>
                    </a:lnTo>
                    <a:close/>
                  </a:path>
                  <a:path w="103504" h="1362075">
                    <a:moveTo>
                      <a:pt x="58038" y="0"/>
                    </a:moveTo>
                    <a:lnTo>
                      <a:pt x="45338" y="0"/>
                    </a:lnTo>
                    <a:lnTo>
                      <a:pt x="45338" y="1326079"/>
                    </a:lnTo>
                    <a:lnTo>
                      <a:pt x="51688" y="1336965"/>
                    </a:lnTo>
                    <a:lnTo>
                      <a:pt x="58038" y="1326079"/>
                    </a:lnTo>
                    <a:lnTo>
                      <a:pt x="58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bject 71"/>
              <p:cNvSpPr/>
              <p:nvPr/>
            </p:nvSpPr>
            <p:spPr>
              <a:xfrm>
                <a:off x="2600640" y="2994840"/>
                <a:ext cx="16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通过形式审查并受理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bject 72"/>
              <p:cNvSpPr/>
              <p:nvPr/>
            </p:nvSpPr>
            <p:spPr>
              <a:xfrm>
                <a:off x="2194200" y="3908160"/>
                <a:ext cx="543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会议审查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bject 73"/>
              <p:cNvSpPr/>
              <p:nvPr/>
            </p:nvSpPr>
            <p:spPr>
              <a:xfrm>
                <a:off x="4718880" y="3901320"/>
                <a:ext cx="54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简易审查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bject 74"/>
              <p:cNvSpPr/>
              <p:nvPr/>
            </p:nvSpPr>
            <p:spPr>
              <a:xfrm>
                <a:off x="4887720" y="2869560"/>
                <a:ext cx="147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否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bject 75"/>
              <p:cNvSpPr/>
              <p:nvPr/>
            </p:nvSpPr>
            <p:spPr>
              <a:xfrm>
                <a:off x="2497320" y="4196880"/>
                <a:ext cx="66600" cy="174960"/>
              </a:xfrm>
              <a:custGeom>
                <a:avLst/>
                <a:gdLst/>
                <a:ahLst/>
                <a:rect l="l" t="t" r="r" b="b"/>
                <a:pathLst>
                  <a:path w="103505" h="285750">
                    <a:moveTo>
                      <a:pt x="7112" y="189737"/>
                    </a:moveTo>
                    <a:lnTo>
                      <a:pt x="1015" y="193293"/>
                    </a:lnTo>
                    <a:lnTo>
                      <a:pt x="0" y="197103"/>
                    </a:lnTo>
                    <a:lnTo>
                      <a:pt x="51688" y="285749"/>
                    </a:lnTo>
                    <a:lnTo>
                      <a:pt x="59020" y="273176"/>
                    </a:lnTo>
                    <a:lnTo>
                      <a:pt x="45338" y="273176"/>
                    </a:lnTo>
                    <a:lnTo>
                      <a:pt x="45338" y="249754"/>
                    </a:lnTo>
                    <a:lnTo>
                      <a:pt x="10921" y="190753"/>
                    </a:lnTo>
                    <a:lnTo>
                      <a:pt x="7112" y="189737"/>
                    </a:lnTo>
                    <a:close/>
                  </a:path>
                  <a:path w="103505" h="285750">
                    <a:moveTo>
                      <a:pt x="45338" y="249754"/>
                    </a:moveTo>
                    <a:lnTo>
                      <a:pt x="45338" y="273176"/>
                    </a:lnTo>
                    <a:lnTo>
                      <a:pt x="58038" y="273176"/>
                    </a:lnTo>
                    <a:lnTo>
                      <a:pt x="58038" y="270001"/>
                    </a:lnTo>
                    <a:lnTo>
                      <a:pt x="46227" y="270001"/>
                    </a:lnTo>
                    <a:lnTo>
                      <a:pt x="51688" y="260640"/>
                    </a:lnTo>
                    <a:lnTo>
                      <a:pt x="45338" y="249754"/>
                    </a:lnTo>
                    <a:close/>
                  </a:path>
                  <a:path w="103505" h="285750">
                    <a:moveTo>
                      <a:pt x="96265" y="189737"/>
                    </a:moveTo>
                    <a:lnTo>
                      <a:pt x="92456" y="190753"/>
                    </a:lnTo>
                    <a:lnTo>
                      <a:pt x="58038" y="249754"/>
                    </a:lnTo>
                    <a:lnTo>
                      <a:pt x="58038" y="273176"/>
                    </a:lnTo>
                    <a:lnTo>
                      <a:pt x="59020" y="273176"/>
                    </a:lnTo>
                    <a:lnTo>
                      <a:pt x="103377" y="197103"/>
                    </a:lnTo>
                    <a:lnTo>
                      <a:pt x="102362" y="193293"/>
                    </a:lnTo>
                    <a:lnTo>
                      <a:pt x="96265" y="189737"/>
                    </a:lnTo>
                    <a:close/>
                  </a:path>
                  <a:path w="103505" h="285750">
                    <a:moveTo>
                      <a:pt x="51688" y="260640"/>
                    </a:moveTo>
                    <a:lnTo>
                      <a:pt x="46227" y="270001"/>
                    </a:lnTo>
                    <a:lnTo>
                      <a:pt x="57150" y="270001"/>
                    </a:lnTo>
                    <a:lnTo>
                      <a:pt x="51688" y="260640"/>
                    </a:lnTo>
                    <a:close/>
                  </a:path>
                  <a:path w="103505" h="285750">
                    <a:moveTo>
                      <a:pt x="58038" y="249754"/>
                    </a:moveTo>
                    <a:lnTo>
                      <a:pt x="51688" y="260640"/>
                    </a:lnTo>
                    <a:lnTo>
                      <a:pt x="57150" y="270001"/>
                    </a:lnTo>
                    <a:lnTo>
                      <a:pt x="58038" y="270001"/>
                    </a:lnTo>
                    <a:lnTo>
                      <a:pt x="58038" y="249754"/>
                    </a:lnTo>
                    <a:close/>
                  </a:path>
                  <a:path w="103505" h="285750">
                    <a:moveTo>
                      <a:pt x="58038" y="0"/>
                    </a:moveTo>
                    <a:lnTo>
                      <a:pt x="45338" y="0"/>
                    </a:lnTo>
                    <a:lnTo>
                      <a:pt x="45338" y="249754"/>
                    </a:lnTo>
                    <a:lnTo>
                      <a:pt x="51688" y="260640"/>
                    </a:lnTo>
                    <a:lnTo>
                      <a:pt x="58038" y="249754"/>
                    </a:lnTo>
                    <a:lnTo>
                      <a:pt x="58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bject 76"/>
              <p:cNvSpPr/>
              <p:nvPr/>
            </p:nvSpPr>
            <p:spPr>
              <a:xfrm>
                <a:off x="2497680" y="4702680"/>
                <a:ext cx="66600" cy="163440"/>
              </a:xfrm>
              <a:custGeom>
                <a:avLst/>
                <a:gdLst/>
                <a:ahLst/>
                <a:rect l="l" t="t" r="r" b="b"/>
                <a:pathLst>
                  <a:path w="103505" h="266700">
                    <a:moveTo>
                      <a:pt x="7112" y="170815"/>
                    </a:moveTo>
                    <a:lnTo>
                      <a:pt x="1015" y="174371"/>
                    </a:lnTo>
                    <a:lnTo>
                      <a:pt x="0" y="178181"/>
                    </a:lnTo>
                    <a:lnTo>
                      <a:pt x="51943" y="266700"/>
                    </a:lnTo>
                    <a:lnTo>
                      <a:pt x="59244" y="254127"/>
                    </a:lnTo>
                    <a:lnTo>
                      <a:pt x="45593" y="254127"/>
                    </a:lnTo>
                    <a:lnTo>
                      <a:pt x="45483" y="230661"/>
                    </a:lnTo>
                    <a:lnTo>
                      <a:pt x="10921" y="171831"/>
                    </a:lnTo>
                    <a:lnTo>
                      <a:pt x="7112" y="170815"/>
                    </a:lnTo>
                    <a:close/>
                  </a:path>
                  <a:path w="103505" h="266700">
                    <a:moveTo>
                      <a:pt x="45534" y="230748"/>
                    </a:moveTo>
                    <a:lnTo>
                      <a:pt x="45593" y="254127"/>
                    </a:lnTo>
                    <a:lnTo>
                      <a:pt x="58293" y="254127"/>
                    </a:lnTo>
                    <a:lnTo>
                      <a:pt x="58285" y="250952"/>
                    </a:lnTo>
                    <a:lnTo>
                      <a:pt x="46481" y="250952"/>
                    </a:lnTo>
                    <a:lnTo>
                      <a:pt x="51904" y="241590"/>
                    </a:lnTo>
                    <a:lnTo>
                      <a:pt x="45534" y="230748"/>
                    </a:lnTo>
                    <a:close/>
                  </a:path>
                  <a:path w="103505" h="266700">
                    <a:moveTo>
                      <a:pt x="96393" y="170561"/>
                    </a:moveTo>
                    <a:lnTo>
                      <a:pt x="92456" y="171577"/>
                    </a:lnTo>
                    <a:lnTo>
                      <a:pt x="58234" y="230661"/>
                    </a:lnTo>
                    <a:lnTo>
                      <a:pt x="58293" y="254127"/>
                    </a:lnTo>
                    <a:lnTo>
                      <a:pt x="59244" y="254127"/>
                    </a:lnTo>
                    <a:lnTo>
                      <a:pt x="101726" y="180975"/>
                    </a:lnTo>
                    <a:lnTo>
                      <a:pt x="103377" y="177927"/>
                    </a:lnTo>
                    <a:lnTo>
                      <a:pt x="102362" y="174117"/>
                    </a:lnTo>
                    <a:lnTo>
                      <a:pt x="99313" y="172339"/>
                    </a:lnTo>
                    <a:lnTo>
                      <a:pt x="96393" y="170561"/>
                    </a:lnTo>
                    <a:close/>
                  </a:path>
                  <a:path w="103505" h="266700">
                    <a:moveTo>
                      <a:pt x="51904" y="241590"/>
                    </a:moveTo>
                    <a:lnTo>
                      <a:pt x="46481" y="250952"/>
                    </a:lnTo>
                    <a:lnTo>
                      <a:pt x="57404" y="250952"/>
                    </a:lnTo>
                    <a:lnTo>
                      <a:pt x="51904" y="241590"/>
                    </a:lnTo>
                    <a:close/>
                  </a:path>
                  <a:path w="103505" h="266700">
                    <a:moveTo>
                      <a:pt x="58234" y="230661"/>
                    </a:moveTo>
                    <a:lnTo>
                      <a:pt x="51904" y="241590"/>
                    </a:lnTo>
                    <a:lnTo>
                      <a:pt x="57404" y="250952"/>
                    </a:lnTo>
                    <a:lnTo>
                      <a:pt x="58285" y="250952"/>
                    </a:lnTo>
                    <a:lnTo>
                      <a:pt x="58234" y="230661"/>
                    </a:lnTo>
                    <a:close/>
                  </a:path>
                  <a:path w="103505" h="266700">
                    <a:moveTo>
                      <a:pt x="57657" y="0"/>
                    </a:moveTo>
                    <a:lnTo>
                      <a:pt x="44957" y="0"/>
                    </a:lnTo>
                    <a:lnTo>
                      <a:pt x="45534" y="230748"/>
                    </a:lnTo>
                    <a:lnTo>
                      <a:pt x="51904" y="241590"/>
                    </a:lnTo>
                    <a:lnTo>
                      <a:pt x="58184" y="230748"/>
                    </a:lnTo>
                    <a:lnTo>
                      <a:pt x="58084" y="170561"/>
                    </a:lnTo>
                    <a:lnTo>
                      <a:pt x="576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bject 77"/>
              <p:cNvSpPr/>
              <p:nvPr/>
            </p:nvSpPr>
            <p:spPr>
              <a:xfrm flipV="1">
                <a:off x="3091320" y="5062680"/>
                <a:ext cx="2382120" cy="27720"/>
              </a:xfrm>
              <a:custGeom>
                <a:avLst/>
                <a:gdLst/>
                <a:ahLst/>
                <a:rect l="l" t="t" r="r" b="b"/>
                <a:pathLst>
                  <a:path w="4018279" h="103504">
                    <a:moveTo>
                      <a:pt x="4007389" y="45338"/>
                    </a:moveTo>
                    <a:lnTo>
                      <a:pt x="4005706" y="45338"/>
                    </a:lnTo>
                    <a:lnTo>
                      <a:pt x="4005706" y="58038"/>
                    </a:lnTo>
                    <a:lnTo>
                      <a:pt x="3982278" y="58042"/>
                    </a:lnTo>
                    <a:lnTo>
                      <a:pt x="3923283" y="92456"/>
                    </a:lnTo>
                    <a:lnTo>
                      <a:pt x="3922268" y="96265"/>
                    </a:lnTo>
                    <a:lnTo>
                      <a:pt x="3925824" y="102362"/>
                    </a:lnTo>
                    <a:lnTo>
                      <a:pt x="3929633" y="103378"/>
                    </a:lnTo>
                    <a:lnTo>
                      <a:pt x="4018279" y="51688"/>
                    </a:lnTo>
                    <a:lnTo>
                      <a:pt x="4007389" y="45338"/>
                    </a:lnTo>
                    <a:close/>
                  </a:path>
                  <a:path w="4018279" h="103504">
                    <a:moveTo>
                      <a:pt x="3982290" y="45342"/>
                    </a:moveTo>
                    <a:lnTo>
                      <a:pt x="0" y="45974"/>
                    </a:lnTo>
                    <a:lnTo>
                      <a:pt x="0" y="58674"/>
                    </a:lnTo>
                    <a:lnTo>
                      <a:pt x="3982284" y="58038"/>
                    </a:lnTo>
                    <a:lnTo>
                      <a:pt x="3993170" y="51689"/>
                    </a:lnTo>
                    <a:lnTo>
                      <a:pt x="3982290" y="45342"/>
                    </a:lnTo>
                    <a:close/>
                  </a:path>
                  <a:path w="4018279" h="103504">
                    <a:moveTo>
                      <a:pt x="3993170" y="51689"/>
                    </a:moveTo>
                    <a:lnTo>
                      <a:pt x="3982278" y="58042"/>
                    </a:lnTo>
                    <a:lnTo>
                      <a:pt x="4005706" y="58038"/>
                    </a:lnTo>
                    <a:lnTo>
                      <a:pt x="4005706" y="57150"/>
                    </a:lnTo>
                    <a:lnTo>
                      <a:pt x="4002531" y="57150"/>
                    </a:lnTo>
                    <a:lnTo>
                      <a:pt x="3993170" y="51689"/>
                    </a:lnTo>
                    <a:close/>
                  </a:path>
                  <a:path w="4018279" h="103504">
                    <a:moveTo>
                      <a:pt x="4002531" y="46228"/>
                    </a:moveTo>
                    <a:lnTo>
                      <a:pt x="3993170" y="51689"/>
                    </a:lnTo>
                    <a:lnTo>
                      <a:pt x="4002531" y="57150"/>
                    </a:lnTo>
                    <a:lnTo>
                      <a:pt x="4002531" y="46228"/>
                    </a:lnTo>
                    <a:close/>
                  </a:path>
                  <a:path w="4018279" h="103504">
                    <a:moveTo>
                      <a:pt x="4005706" y="46228"/>
                    </a:moveTo>
                    <a:lnTo>
                      <a:pt x="4002531" y="46228"/>
                    </a:lnTo>
                    <a:lnTo>
                      <a:pt x="4002531" y="57150"/>
                    </a:lnTo>
                    <a:lnTo>
                      <a:pt x="4005706" y="57150"/>
                    </a:lnTo>
                    <a:lnTo>
                      <a:pt x="4005706" y="46228"/>
                    </a:lnTo>
                    <a:close/>
                  </a:path>
                  <a:path w="4018279" h="103504">
                    <a:moveTo>
                      <a:pt x="4005706" y="45338"/>
                    </a:moveTo>
                    <a:lnTo>
                      <a:pt x="3982290" y="45342"/>
                    </a:lnTo>
                    <a:lnTo>
                      <a:pt x="3993170" y="51689"/>
                    </a:lnTo>
                    <a:lnTo>
                      <a:pt x="4002531" y="46228"/>
                    </a:lnTo>
                    <a:lnTo>
                      <a:pt x="4005706" y="46228"/>
                    </a:lnTo>
                    <a:lnTo>
                      <a:pt x="4005706" y="45338"/>
                    </a:lnTo>
                    <a:close/>
                  </a:path>
                  <a:path w="4018279" h="103504">
                    <a:moveTo>
                      <a:pt x="3929633" y="0"/>
                    </a:moveTo>
                    <a:lnTo>
                      <a:pt x="3925824" y="1015"/>
                    </a:lnTo>
                    <a:lnTo>
                      <a:pt x="3922268" y="7112"/>
                    </a:lnTo>
                    <a:lnTo>
                      <a:pt x="3923283" y="10921"/>
                    </a:lnTo>
                    <a:lnTo>
                      <a:pt x="3982290" y="45342"/>
                    </a:lnTo>
                    <a:lnTo>
                      <a:pt x="4007389" y="45338"/>
                    </a:lnTo>
                    <a:lnTo>
                      <a:pt x="39296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bject 78"/>
              <p:cNvSpPr/>
              <p:nvPr/>
            </p:nvSpPr>
            <p:spPr>
              <a:xfrm>
                <a:off x="6080760" y="4797000"/>
                <a:ext cx="66600" cy="123120"/>
              </a:xfrm>
              <a:custGeom>
                <a:avLst/>
                <a:gdLst/>
                <a:ahLst/>
                <a:rect l="l" t="t" r="r" b="b"/>
                <a:pathLst>
                  <a:path w="103504" h="201295">
                    <a:moveTo>
                      <a:pt x="51688" y="25109"/>
                    </a:moveTo>
                    <a:lnTo>
                      <a:pt x="45338" y="35995"/>
                    </a:lnTo>
                    <a:lnTo>
                      <a:pt x="45338" y="201295"/>
                    </a:lnTo>
                    <a:lnTo>
                      <a:pt x="58038" y="201295"/>
                    </a:lnTo>
                    <a:lnTo>
                      <a:pt x="58038" y="35995"/>
                    </a:lnTo>
                    <a:lnTo>
                      <a:pt x="51688" y="25109"/>
                    </a:lnTo>
                    <a:close/>
                  </a:path>
                  <a:path w="103504" h="201295">
                    <a:moveTo>
                      <a:pt x="51688" y="0"/>
                    </a:moveTo>
                    <a:lnTo>
                      <a:pt x="0" y="88646"/>
                    </a:lnTo>
                    <a:lnTo>
                      <a:pt x="1015" y="92456"/>
                    </a:lnTo>
                    <a:lnTo>
                      <a:pt x="7111" y="96012"/>
                    </a:lnTo>
                    <a:lnTo>
                      <a:pt x="10922" y="94996"/>
                    </a:lnTo>
                    <a:lnTo>
                      <a:pt x="45338" y="35995"/>
                    </a:lnTo>
                    <a:lnTo>
                      <a:pt x="45338" y="12573"/>
                    </a:lnTo>
                    <a:lnTo>
                      <a:pt x="59020" y="12573"/>
                    </a:lnTo>
                    <a:lnTo>
                      <a:pt x="51688" y="0"/>
                    </a:lnTo>
                    <a:close/>
                  </a:path>
                  <a:path w="103504" h="201295">
                    <a:moveTo>
                      <a:pt x="59020" y="12573"/>
                    </a:moveTo>
                    <a:lnTo>
                      <a:pt x="58038" y="12573"/>
                    </a:lnTo>
                    <a:lnTo>
                      <a:pt x="58039" y="35995"/>
                    </a:lnTo>
                    <a:lnTo>
                      <a:pt x="92455" y="94996"/>
                    </a:lnTo>
                    <a:lnTo>
                      <a:pt x="96265" y="96012"/>
                    </a:lnTo>
                    <a:lnTo>
                      <a:pt x="102361" y="92456"/>
                    </a:lnTo>
                    <a:lnTo>
                      <a:pt x="103377" y="88646"/>
                    </a:lnTo>
                    <a:lnTo>
                      <a:pt x="59020" y="12573"/>
                    </a:lnTo>
                    <a:close/>
                  </a:path>
                  <a:path w="103504" h="201295">
                    <a:moveTo>
                      <a:pt x="58038" y="12573"/>
                    </a:moveTo>
                    <a:lnTo>
                      <a:pt x="45338" y="12573"/>
                    </a:lnTo>
                    <a:lnTo>
                      <a:pt x="45338" y="35995"/>
                    </a:lnTo>
                    <a:lnTo>
                      <a:pt x="51689" y="25109"/>
                    </a:lnTo>
                    <a:lnTo>
                      <a:pt x="46227" y="15748"/>
                    </a:lnTo>
                    <a:lnTo>
                      <a:pt x="58038" y="15748"/>
                    </a:lnTo>
                    <a:lnTo>
                      <a:pt x="58038" y="12573"/>
                    </a:lnTo>
                    <a:close/>
                  </a:path>
                  <a:path w="103504" h="201295">
                    <a:moveTo>
                      <a:pt x="58038" y="15748"/>
                    </a:moveTo>
                    <a:lnTo>
                      <a:pt x="57150" y="15748"/>
                    </a:lnTo>
                    <a:lnTo>
                      <a:pt x="51688" y="25109"/>
                    </a:lnTo>
                    <a:lnTo>
                      <a:pt x="58039" y="35995"/>
                    </a:lnTo>
                    <a:lnTo>
                      <a:pt x="58038" y="15748"/>
                    </a:lnTo>
                    <a:close/>
                  </a:path>
                  <a:path w="103504" h="201295">
                    <a:moveTo>
                      <a:pt x="57150" y="15748"/>
                    </a:moveTo>
                    <a:lnTo>
                      <a:pt x="46227" y="15748"/>
                    </a:lnTo>
                    <a:lnTo>
                      <a:pt x="51688" y="25109"/>
                    </a:lnTo>
                    <a:lnTo>
                      <a:pt x="57150" y="157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bject 80"/>
              <p:cNvSpPr/>
              <p:nvPr/>
            </p:nvSpPr>
            <p:spPr>
              <a:xfrm>
                <a:off x="1350000" y="4100760"/>
                <a:ext cx="826560" cy="383760"/>
              </a:xfrm>
              <a:prstGeom prst="rect">
                <a:avLst/>
              </a:prstGeom>
              <a:blipFill rotWithShape="0">
                <a:blip r:embed="rId4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bject 81"/>
              <p:cNvSpPr/>
              <p:nvPr/>
            </p:nvSpPr>
            <p:spPr>
              <a:xfrm>
                <a:off x="1335240" y="4161600"/>
                <a:ext cx="820440" cy="297000"/>
              </a:xfrm>
              <a:prstGeom prst="rect">
                <a:avLst/>
              </a:prstGeom>
              <a:blipFill rotWithShape="0">
                <a:blip r:embed="rId4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object 82" descr=""/>
              <p:cNvPicPr/>
              <p:nvPr/>
            </p:nvPicPr>
            <p:blipFill>
              <a:blip r:embed="rId42"/>
              <a:stretch/>
            </p:blipFill>
            <p:spPr>
              <a:xfrm>
                <a:off x="1377360" y="4100040"/>
                <a:ext cx="771120" cy="3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object 83"/>
              <p:cNvSpPr/>
              <p:nvPr/>
            </p:nvSpPr>
            <p:spPr>
              <a:xfrm>
                <a:off x="1451520" y="4214160"/>
                <a:ext cx="633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实施主审制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bject 84"/>
              <p:cNvSpPr/>
              <p:nvPr/>
            </p:nvSpPr>
            <p:spPr>
              <a:xfrm>
                <a:off x="1350000" y="4619520"/>
                <a:ext cx="826560" cy="383760"/>
              </a:xfrm>
              <a:prstGeom prst="rect">
                <a:avLst/>
              </a:prstGeom>
              <a:blipFill rotWithShape="0">
                <a:blip r:embed="rId4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bject 85"/>
              <p:cNvSpPr/>
              <p:nvPr/>
            </p:nvSpPr>
            <p:spPr>
              <a:xfrm>
                <a:off x="1365840" y="4674240"/>
                <a:ext cx="977760" cy="437760"/>
              </a:xfrm>
              <a:prstGeom prst="rect">
                <a:avLst/>
              </a:prstGeom>
              <a:blipFill rotWithShape="0">
                <a:blip r:embed="rId4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object 86" descr=""/>
              <p:cNvPicPr/>
              <p:nvPr/>
            </p:nvPicPr>
            <p:blipFill>
              <a:blip r:embed="rId45"/>
              <a:stretch/>
            </p:blipFill>
            <p:spPr>
              <a:xfrm>
                <a:off x="1377360" y="4618800"/>
                <a:ext cx="77112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object 87"/>
              <p:cNvSpPr/>
              <p:nvPr/>
            </p:nvSpPr>
            <p:spPr>
              <a:xfrm>
                <a:off x="1429200" y="4653360"/>
                <a:ext cx="8773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必要时邀请：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独立顾问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bject 89"/>
              <p:cNvSpPr/>
              <p:nvPr/>
            </p:nvSpPr>
            <p:spPr>
              <a:xfrm rot="1866000">
                <a:off x="2163960" y="4297320"/>
                <a:ext cx="261360" cy="39960"/>
              </a:xfrm>
              <a:custGeom>
                <a:avLst/>
                <a:gdLst/>
                <a:ahLst/>
                <a:rect l="l" t="t" r="r" b="b"/>
                <a:pathLst>
                  <a:path w="513080" h="103504">
                    <a:moveTo>
                      <a:pt x="424306" y="0"/>
                    </a:moveTo>
                    <a:lnTo>
                      <a:pt x="420369" y="1016"/>
                    </a:lnTo>
                    <a:lnTo>
                      <a:pt x="416813" y="7112"/>
                    </a:lnTo>
                    <a:lnTo>
                      <a:pt x="417830" y="10922"/>
                    </a:lnTo>
                    <a:lnTo>
                      <a:pt x="476724" y="45521"/>
                    </a:lnTo>
                    <a:lnTo>
                      <a:pt x="500253" y="45593"/>
                    </a:lnTo>
                    <a:lnTo>
                      <a:pt x="500125" y="58293"/>
                    </a:lnTo>
                    <a:lnTo>
                      <a:pt x="476559" y="58293"/>
                    </a:lnTo>
                    <a:lnTo>
                      <a:pt x="417575" y="92456"/>
                    </a:lnTo>
                    <a:lnTo>
                      <a:pt x="416560" y="96266"/>
                    </a:lnTo>
                    <a:lnTo>
                      <a:pt x="420116" y="102362"/>
                    </a:lnTo>
                    <a:lnTo>
                      <a:pt x="424053" y="103378"/>
                    </a:lnTo>
                    <a:lnTo>
                      <a:pt x="426974" y="101727"/>
                    </a:lnTo>
                    <a:lnTo>
                      <a:pt x="501875" y="58293"/>
                    </a:lnTo>
                    <a:lnTo>
                      <a:pt x="500125" y="58293"/>
                    </a:lnTo>
                    <a:lnTo>
                      <a:pt x="501998" y="58221"/>
                    </a:lnTo>
                    <a:lnTo>
                      <a:pt x="512825" y="51943"/>
                    </a:lnTo>
                    <a:lnTo>
                      <a:pt x="424306" y="0"/>
                    </a:lnTo>
                    <a:close/>
                  </a:path>
                  <a:path w="513080" h="103504">
                    <a:moveTo>
                      <a:pt x="487589" y="51904"/>
                    </a:moveTo>
                    <a:lnTo>
                      <a:pt x="476682" y="58221"/>
                    </a:lnTo>
                    <a:lnTo>
                      <a:pt x="500125" y="58293"/>
                    </a:lnTo>
                    <a:lnTo>
                      <a:pt x="500134" y="57404"/>
                    </a:lnTo>
                    <a:lnTo>
                      <a:pt x="496950" y="57404"/>
                    </a:lnTo>
                    <a:lnTo>
                      <a:pt x="487589" y="51904"/>
                    </a:lnTo>
                    <a:close/>
                  </a:path>
                  <a:path w="513080" h="103504">
                    <a:moveTo>
                      <a:pt x="0" y="44069"/>
                    </a:moveTo>
                    <a:lnTo>
                      <a:pt x="0" y="56769"/>
                    </a:lnTo>
                    <a:lnTo>
                      <a:pt x="476682" y="58221"/>
                    </a:lnTo>
                    <a:lnTo>
                      <a:pt x="487589" y="51904"/>
                    </a:lnTo>
                    <a:lnTo>
                      <a:pt x="476724" y="45521"/>
                    </a:lnTo>
                    <a:lnTo>
                      <a:pt x="0" y="44069"/>
                    </a:lnTo>
                    <a:close/>
                  </a:path>
                  <a:path w="513080" h="103504">
                    <a:moveTo>
                      <a:pt x="496950" y="46482"/>
                    </a:moveTo>
                    <a:lnTo>
                      <a:pt x="487589" y="51904"/>
                    </a:lnTo>
                    <a:lnTo>
                      <a:pt x="496950" y="57404"/>
                    </a:lnTo>
                    <a:lnTo>
                      <a:pt x="496950" y="46482"/>
                    </a:lnTo>
                    <a:close/>
                  </a:path>
                  <a:path w="513080" h="103504">
                    <a:moveTo>
                      <a:pt x="500244" y="46482"/>
                    </a:moveTo>
                    <a:lnTo>
                      <a:pt x="496950" y="46482"/>
                    </a:lnTo>
                    <a:lnTo>
                      <a:pt x="496950" y="57404"/>
                    </a:lnTo>
                    <a:lnTo>
                      <a:pt x="500134" y="57404"/>
                    </a:lnTo>
                    <a:lnTo>
                      <a:pt x="500244" y="46482"/>
                    </a:lnTo>
                    <a:close/>
                  </a:path>
                  <a:path w="513080" h="103504">
                    <a:moveTo>
                      <a:pt x="476724" y="45521"/>
                    </a:moveTo>
                    <a:lnTo>
                      <a:pt x="487589" y="51904"/>
                    </a:lnTo>
                    <a:lnTo>
                      <a:pt x="496950" y="46482"/>
                    </a:lnTo>
                    <a:lnTo>
                      <a:pt x="500244" y="46482"/>
                    </a:lnTo>
                    <a:lnTo>
                      <a:pt x="500253" y="45593"/>
                    </a:lnTo>
                    <a:lnTo>
                      <a:pt x="476724" y="455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bject 90"/>
              <p:cNvSpPr/>
              <p:nvPr/>
            </p:nvSpPr>
            <p:spPr>
              <a:xfrm rot="20046600">
                <a:off x="2150640" y="4769640"/>
                <a:ext cx="329760" cy="63360"/>
              </a:xfrm>
              <a:custGeom>
                <a:avLst/>
                <a:gdLst/>
                <a:ahLst/>
                <a:rect l="l" t="t" r="r" b="b"/>
                <a:pathLst>
                  <a:path w="511175" h="103504">
                    <a:moveTo>
                      <a:pt x="422782" y="0"/>
                    </a:moveTo>
                    <a:lnTo>
                      <a:pt x="418845" y="1016"/>
                    </a:lnTo>
                    <a:lnTo>
                      <a:pt x="415289" y="7112"/>
                    </a:lnTo>
                    <a:lnTo>
                      <a:pt x="416306" y="10922"/>
                    </a:lnTo>
                    <a:lnTo>
                      <a:pt x="475200" y="45521"/>
                    </a:lnTo>
                    <a:lnTo>
                      <a:pt x="498601" y="45593"/>
                    </a:lnTo>
                    <a:lnTo>
                      <a:pt x="498601" y="58293"/>
                    </a:lnTo>
                    <a:lnTo>
                      <a:pt x="475035" y="58293"/>
                    </a:lnTo>
                    <a:lnTo>
                      <a:pt x="416051" y="92456"/>
                    </a:lnTo>
                    <a:lnTo>
                      <a:pt x="415036" y="96266"/>
                    </a:lnTo>
                    <a:lnTo>
                      <a:pt x="416813" y="99314"/>
                    </a:lnTo>
                    <a:lnTo>
                      <a:pt x="418464" y="102362"/>
                    </a:lnTo>
                    <a:lnTo>
                      <a:pt x="422401" y="103378"/>
                    </a:lnTo>
                    <a:lnTo>
                      <a:pt x="425450" y="101727"/>
                    </a:lnTo>
                    <a:lnTo>
                      <a:pt x="500240" y="58293"/>
                    </a:lnTo>
                    <a:lnTo>
                      <a:pt x="498601" y="58293"/>
                    </a:lnTo>
                    <a:lnTo>
                      <a:pt x="500364" y="58221"/>
                    </a:lnTo>
                    <a:lnTo>
                      <a:pt x="511175" y="51943"/>
                    </a:lnTo>
                    <a:lnTo>
                      <a:pt x="425704" y="1778"/>
                    </a:lnTo>
                    <a:lnTo>
                      <a:pt x="422782" y="0"/>
                    </a:lnTo>
                    <a:close/>
                  </a:path>
                  <a:path w="511175" h="103504">
                    <a:moveTo>
                      <a:pt x="486065" y="51904"/>
                    </a:moveTo>
                    <a:lnTo>
                      <a:pt x="475158" y="58221"/>
                    </a:lnTo>
                    <a:lnTo>
                      <a:pt x="498601" y="58293"/>
                    </a:lnTo>
                    <a:lnTo>
                      <a:pt x="498601" y="57404"/>
                    </a:lnTo>
                    <a:lnTo>
                      <a:pt x="495426" y="57404"/>
                    </a:lnTo>
                    <a:lnTo>
                      <a:pt x="486065" y="51904"/>
                    </a:lnTo>
                    <a:close/>
                  </a:path>
                  <a:path w="511175" h="103504">
                    <a:moveTo>
                      <a:pt x="0" y="44069"/>
                    </a:moveTo>
                    <a:lnTo>
                      <a:pt x="0" y="56769"/>
                    </a:lnTo>
                    <a:lnTo>
                      <a:pt x="475158" y="58221"/>
                    </a:lnTo>
                    <a:lnTo>
                      <a:pt x="486065" y="51904"/>
                    </a:lnTo>
                    <a:lnTo>
                      <a:pt x="475200" y="45521"/>
                    </a:lnTo>
                    <a:lnTo>
                      <a:pt x="0" y="44069"/>
                    </a:lnTo>
                    <a:close/>
                  </a:path>
                  <a:path w="511175" h="103504">
                    <a:moveTo>
                      <a:pt x="495426" y="46482"/>
                    </a:moveTo>
                    <a:lnTo>
                      <a:pt x="486065" y="51904"/>
                    </a:lnTo>
                    <a:lnTo>
                      <a:pt x="495426" y="57404"/>
                    </a:lnTo>
                    <a:lnTo>
                      <a:pt x="495426" y="46482"/>
                    </a:lnTo>
                    <a:close/>
                  </a:path>
                  <a:path w="511175" h="103504">
                    <a:moveTo>
                      <a:pt x="498601" y="46482"/>
                    </a:moveTo>
                    <a:lnTo>
                      <a:pt x="495426" y="46482"/>
                    </a:lnTo>
                    <a:lnTo>
                      <a:pt x="495426" y="57404"/>
                    </a:lnTo>
                    <a:lnTo>
                      <a:pt x="498601" y="57404"/>
                    </a:lnTo>
                    <a:lnTo>
                      <a:pt x="498601" y="46482"/>
                    </a:lnTo>
                    <a:close/>
                  </a:path>
                  <a:path w="511175" h="103504">
                    <a:moveTo>
                      <a:pt x="475200" y="45521"/>
                    </a:moveTo>
                    <a:lnTo>
                      <a:pt x="486065" y="51904"/>
                    </a:lnTo>
                    <a:lnTo>
                      <a:pt x="495426" y="46482"/>
                    </a:lnTo>
                    <a:lnTo>
                      <a:pt x="498601" y="46482"/>
                    </a:lnTo>
                    <a:lnTo>
                      <a:pt x="498601" y="45593"/>
                    </a:lnTo>
                    <a:lnTo>
                      <a:pt x="475200" y="455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23"/>
              <p:cNvSpPr/>
              <p:nvPr/>
            </p:nvSpPr>
            <p:spPr>
              <a:xfrm>
                <a:off x="3946320" y="3221280"/>
                <a:ext cx="147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是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122"/>
              <p:cNvSpPr/>
              <p:nvPr/>
            </p:nvSpPr>
            <p:spPr>
              <a:xfrm>
                <a:off x="5729760" y="4286520"/>
                <a:ext cx="92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复审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/</a:t>
                </a: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跟踪审查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bject 78"/>
              <p:cNvSpPr/>
              <p:nvPr/>
            </p:nvSpPr>
            <p:spPr>
              <a:xfrm>
                <a:off x="6080760" y="4451760"/>
                <a:ext cx="66600" cy="123120"/>
              </a:xfrm>
              <a:custGeom>
                <a:avLst/>
                <a:gdLst/>
                <a:ahLst/>
                <a:rect l="l" t="t" r="r" b="b"/>
                <a:pathLst>
                  <a:path w="103504" h="201295">
                    <a:moveTo>
                      <a:pt x="51688" y="25109"/>
                    </a:moveTo>
                    <a:lnTo>
                      <a:pt x="45338" y="35995"/>
                    </a:lnTo>
                    <a:lnTo>
                      <a:pt x="45338" y="201295"/>
                    </a:lnTo>
                    <a:lnTo>
                      <a:pt x="58038" y="201295"/>
                    </a:lnTo>
                    <a:lnTo>
                      <a:pt x="58038" y="35995"/>
                    </a:lnTo>
                    <a:lnTo>
                      <a:pt x="51688" y="25109"/>
                    </a:lnTo>
                    <a:close/>
                  </a:path>
                  <a:path w="103504" h="201295">
                    <a:moveTo>
                      <a:pt x="51688" y="0"/>
                    </a:moveTo>
                    <a:lnTo>
                      <a:pt x="0" y="88646"/>
                    </a:lnTo>
                    <a:lnTo>
                      <a:pt x="1015" y="92456"/>
                    </a:lnTo>
                    <a:lnTo>
                      <a:pt x="7111" y="96012"/>
                    </a:lnTo>
                    <a:lnTo>
                      <a:pt x="10922" y="94996"/>
                    </a:lnTo>
                    <a:lnTo>
                      <a:pt x="45338" y="35995"/>
                    </a:lnTo>
                    <a:lnTo>
                      <a:pt x="45338" y="12573"/>
                    </a:lnTo>
                    <a:lnTo>
                      <a:pt x="59020" y="12573"/>
                    </a:lnTo>
                    <a:lnTo>
                      <a:pt x="51688" y="0"/>
                    </a:lnTo>
                    <a:close/>
                  </a:path>
                  <a:path w="103504" h="201295">
                    <a:moveTo>
                      <a:pt x="59020" y="12573"/>
                    </a:moveTo>
                    <a:lnTo>
                      <a:pt x="58038" y="12573"/>
                    </a:lnTo>
                    <a:lnTo>
                      <a:pt x="58039" y="35995"/>
                    </a:lnTo>
                    <a:lnTo>
                      <a:pt x="92455" y="94996"/>
                    </a:lnTo>
                    <a:lnTo>
                      <a:pt x="96265" y="96012"/>
                    </a:lnTo>
                    <a:lnTo>
                      <a:pt x="102361" y="92456"/>
                    </a:lnTo>
                    <a:lnTo>
                      <a:pt x="103377" y="88646"/>
                    </a:lnTo>
                    <a:lnTo>
                      <a:pt x="59020" y="12573"/>
                    </a:lnTo>
                    <a:close/>
                  </a:path>
                  <a:path w="103504" h="201295">
                    <a:moveTo>
                      <a:pt x="58038" y="12573"/>
                    </a:moveTo>
                    <a:lnTo>
                      <a:pt x="45338" y="12573"/>
                    </a:lnTo>
                    <a:lnTo>
                      <a:pt x="45338" y="35995"/>
                    </a:lnTo>
                    <a:lnTo>
                      <a:pt x="51689" y="25109"/>
                    </a:lnTo>
                    <a:lnTo>
                      <a:pt x="46227" y="15748"/>
                    </a:lnTo>
                    <a:lnTo>
                      <a:pt x="58038" y="15748"/>
                    </a:lnTo>
                    <a:lnTo>
                      <a:pt x="58038" y="12573"/>
                    </a:lnTo>
                    <a:close/>
                  </a:path>
                  <a:path w="103504" h="201295">
                    <a:moveTo>
                      <a:pt x="58038" y="15748"/>
                    </a:moveTo>
                    <a:lnTo>
                      <a:pt x="57150" y="15748"/>
                    </a:lnTo>
                    <a:lnTo>
                      <a:pt x="51688" y="25109"/>
                    </a:lnTo>
                    <a:lnTo>
                      <a:pt x="58039" y="35995"/>
                    </a:lnTo>
                    <a:lnTo>
                      <a:pt x="58038" y="15748"/>
                    </a:lnTo>
                    <a:close/>
                  </a:path>
                  <a:path w="103504" h="201295">
                    <a:moveTo>
                      <a:pt x="57150" y="15748"/>
                    </a:moveTo>
                    <a:lnTo>
                      <a:pt x="46227" y="15748"/>
                    </a:lnTo>
                    <a:lnTo>
                      <a:pt x="51688" y="25109"/>
                    </a:lnTo>
                    <a:lnTo>
                      <a:pt x="57150" y="157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bject 50"/>
              <p:cNvSpPr/>
              <p:nvPr/>
            </p:nvSpPr>
            <p:spPr>
              <a:xfrm>
                <a:off x="6775200" y="4257000"/>
                <a:ext cx="697320" cy="185040"/>
              </a:xfrm>
              <a:prstGeom prst="rect">
                <a:avLst/>
              </a:prstGeom>
              <a:blipFill rotWithShape="0">
                <a:blip r:embed="rId4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19"/>
              <p:cNvSpPr/>
              <p:nvPr/>
            </p:nvSpPr>
            <p:spPr>
              <a:xfrm>
                <a:off x="6886800" y="4296240"/>
                <a:ext cx="5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微软雅黑"/>
                    <a:ea typeface="Microsoft YaHei UI"/>
                  </a:rPr>
                  <a:t>资料归档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bject 66"/>
              <p:cNvSpPr/>
              <p:nvPr/>
            </p:nvSpPr>
            <p:spPr>
              <a:xfrm>
                <a:off x="6530400" y="4340160"/>
                <a:ext cx="239760" cy="27360"/>
              </a:xfrm>
              <a:custGeom>
                <a:avLst/>
                <a:gdLst/>
                <a:ahLst/>
                <a:rect l="l" t="t" r="r" b="b"/>
                <a:pathLst>
                  <a:path w="1381125" h="103505">
                    <a:moveTo>
                      <a:pt x="1370266" y="44830"/>
                    </a:moveTo>
                    <a:lnTo>
                      <a:pt x="1368552" y="44830"/>
                    </a:lnTo>
                    <a:lnTo>
                      <a:pt x="1368552" y="57530"/>
                    </a:lnTo>
                    <a:lnTo>
                      <a:pt x="1345040" y="57703"/>
                    </a:lnTo>
                    <a:lnTo>
                      <a:pt x="1286383" y="92455"/>
                    </a:lnTo>
                    <a:lnTo>
                      <a:pt x="1285367" y="96392"/>
                    </a:lnTo>
                    <a:lnTo>
                      <a:pt x="1287272" y="99440"/>
                    </a:lnTo>
                    <a:lnTo>
                      <a:pt x="1289050" y="102362"/>
                    </a:lnTo>
                    <a:lnTo>
                      <a:pt x="1292860" y="103377"/>
                    </a:lnTo>
                    <a:lnTo>
                      <a:pt x="1381125" y="51053"/>
                    </a:lnTo>
                    <a:lnTo>
                      <a:pt x="1370266" y="44830"/>
                    </a:lnTo>
                    <a:close/>
                  </a:path>
                  <a:path w="1381125" h="103505">
                    <a:moveTo>
                      <a:pt x="1345068" y="45003"/>
                    </a:moveTo>
                    <a:lnTo>
                      <a:pt x="0" y="54863"/>
                    </a:lnTo>
                    <a:lnTo>
                      <a:pt x="0" y="67563"/>
                    </a:lnTo>
                    <a:lnTo>
                      <a:pt x="1345040" y="57703"/>
                    </a:lnTo>
                    <a:lnTo>
                      <a:pt x="1355945" y="51237"/>
                    </a:lnTo>
                    <a:lnTo>
                      <a:pt x="1345068" y="45003"/>
                    </a:lnTo>
                    <a:close/>
                  </a:path>
                  <a:path w="1381125" h="103505">
                    <a:moveTo>
                      <a:pt x="1355945" y="51237"/>
                    </a:moveTo>
                    <a:lnTo>
                      <a:pt x="1345040" y="57703"/>
                    </a:lnTo>
                    <a:lnTo>
                      <a:pt x="1368552" y="57530"/>
                    </a:lnTo>
                    <a:lnTo>
                      <a:pt x="1368552" y="56641"/>
                    </a:lnTo>
                    <a:lnTo>
                      <a:pt x="1365377" y="56641"/>
                    </a:lnTo>
                    <a:lnTo>
                      <a:pt x="1355945" y="51237"/>
                    </a:lnTo>
                    <a:close/>
                  </a:path>
                  <a:path w="1381125" h="103505">
                    <a:moveTo>
                      <a:pt x="1365250" y="45719"/>
                    </a:moveTo>
                    <a:lnTo>
                      <a:pt x="1355945" y="51237"/>
                    </a:lnTo>
                    <a:lnTo>
                      <a:pt x="1365377" y="56641"/>
                    </a:lnTo>
                    <a:lnTo>
                      <a:pt x="1365250" y="45719"/>
                    </a:lnTo>
                    <a:close/>
                  </a:path>
                  <a:path w="1381125" h="103505">
                    <a:moveTo>
                      <a:pt x="1368552" y="45719"/>
                    </a:moveTo>
                    <a:lnTo>
                      <a:pt x="1365250" y="45719"/>
                    </a:lnTo>
                    <a:lnTo>
                      <a:pt x="1365377" y="56641"/>
                    </a:lnTo>
                    <a:lnTo>
                      <a:pt x="1368552" y="56641"/>
                    </a:lnTo>
                    <a:lnTo>
                      <a:pt x="1368552" y="45719"/>
                    </a:lnTo>
                    <a:close/>
                  </a:path>
                  <a:path w="1381125" h="103505">
                    <a:moveTo>
                      <a:pt x="1368552" y="44830"/>
                    </a:moveTo>
                    <a:lnTo>
                      <a:pt x="1345068" y="45003"/>
                    </a:lnTo>
                    <a:lnTo>
                      <a:pt x="1355945" y="51237"/>
                    </a:lnTo>
                    <a:lnTo>
                      <a:pt x="1365250" y="45719"/>
                    </a:lnTo>
                    <a:lnTo>
                      <a:pt x="1368552" y="45719"/>
                    </a:lnTo>
                    <a:lnTo>
                      <a:pt x="1368552" y="44830"/>
                    </a:lnTo>
                    <a:close/>
                  </a:path>
                  <a:path w="1381125" h="103505">
                    <a:moveTo>
                      <a:pt x="1292098" y="0"/>
                    </a:moveTo>
                    <a:lnTo>
                      <a:pt x="1288288" y="1015"/>
                    </a:lnTo>
                    <a:lnTo>
                      <a:pt x="1284732" y="7112"/>
                    </a:lnTo>
                    <a:lnTo>
                      <a:pt x="1285875" y="11048"/>
                    </a:lnTo>
                    <a:lnTo>
                      <a:pt x="1288923" y="12826"/>
                    </a:lnTo>
                    <a:lnTo>
                      <a:pt x="1345068" y="45003"/>
                    </a:lnTo>
                    <a:lnTo>
                      <a:pt x="1370266" y="44830"/>
                    </a:lnTo>
                    <a:lnTo>
                      <a:pt x="1295146" y="1777"/>
                    </a:lnTo>
                    <a:lnTo>
                      <a:pt x="12920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bject 90"/>
              <p:cNvSpPr/>
              <p:nvPr/>
            </p:nvSpPr>
            <p:spPr>
              <a:xfrm rot="20046600">
                <a:off x="6469200" y="4554360"/>
                <a:ext cx="329760" cy="63360"/>
              </a:xfrm>
              <a:custGeom>
                <a:avLst/>
                <a:gdLst/>
                <a:ahLst/>
                <a:rect l="l" t="t" r="r" b="b"/>
                <a:pathLst>
                  <a:path w="511175" h="103504">
                    <a:moveTo>
                      <a:pt x="422782" y="0"/>
                    </a:moveTo>
                    <a:lnTo>
                      <a:pt x="418845" y="1016"/>
                    </a:lnTo>
                    <a:lnTo>
                      <a:pt x="415289" y="7112"/>
                    </a:lnTo>
                    <a:lnTo>
                      <a:pt x="416306" y="10922"/>
                    </a:lnTo>
                    <a:lnTo>
                      <a:pt x="475200" y="45521"/>
                    </a:lnTo>
                    <a:lnTo>
                      <a:pt x="498601" y="45593"/>
                    </a:lnTo>
                    <a:lnTo>
                      <a:pt x="498601" y="58293"/>
                    </a:lnTo>
                    <a:lnTo>
                      <a:pt x="475035" y="58293"/>
                    </a:lnTo>
                    <a:lnTo>
                      <a:pt x="416051" y="92456"/>
                    </a:lnTo>
                    <a:lnTo>
                      <a:pt x="415036" y="96266"/>
                    </a:lnTo>
                    <a:lnTo>
                      <a:pt x="416813" y="99314"/>
                    </a:lnTo>
                    <a:lnTo>
                      <a:pt x="418464" y="102362"/>
                    </a:lnTo>
                    <a:lnTo>
                      <a:pt x="422401" y="103378"/>
                    </a:lnTo>
                    <a:lnTo>
                      <a:pt x="425450" y="101727"/>
                    </a:lnTo>
                    <a:lnTo>
                      <a:pt x="500240" y="58293"/>
                    </a:lnTo>
                    <a:lnTo>
                      <a:pt x="498601" y="58293"/>
                    </a:lnTo>
                    <a:lnTo>
                      <a:pt x="500364" y="58221"/>
                    </a:lnTo>
                    <a:lnTo>
                      <a:pt x="511175" y="51943"/>
                    </a:lnTo>
                    <a:lnTo>
                      <a:pt x="425704" y="1778"/>
                    </a:lnTo>
                    <a:lnTo>
                      <a:pt x="422782" y="0"/>
                    </a:lnTo>
                    <a:close/>
                  </a:path>
                  <a:path w="511175" h="103504">
                    <a:moveTo>
                      <a:pt x="486065" y="51904"/>
                    </a:moveTo>
                    <a:lnTo>
                      <a:pt x="475158" y="58221"/>
                    </a:lnTo>
                    <a:lnTo>
                      <a:pt x="498601" y="58293"/>
                    </a:lnTo>
                    <a:lnTo>
                      <a:pt x="498601" y="57404"/>
                    </a:lnTo>
                    <a:lnTo>
                      <a:pt x="495426" y="57404"/>
                    </a:lnTo>
                    <a:lnTo>
                      <a:pt x="486065" y="51904"/>
                    </a:lnTo>
                    <a:close/>
                  </a:path>
                  <a:path w="511175" h="103504">
                    <a:moveTo>
                      <a:pt x="0" y="44069"/>
                    </a:moveTo>
                    <a:lnTo>
                      <a:pt x="0" y="56769"/>
                    </a:lnTo>
                    <a:lnTo>
                      <a:pt x="475158" y="58221"/>
                    </a:lnTo>
                    <a:lnTo>
                      <a:pt x="486065" y="51904"/>
                    </a:lnTo>
                    <a:lnTo>
                      <a:pt x="475200" y="45521"/>
                    </a:lnTo>
                    <a:lnTo>
                      <a:pt x="0" y="44069"/>
                    </a:lnTo>
                    <a:close/>
                  </a:path>
                  <a:path w="511175" h="103504">
                    <a:moveTo>
                      <a:pt x="495426" y="46482"/>
                    </a:moveTo>
                    <a:lnTo>
                      <a:pt x="486065" y="51904"/>
                    </a:lnTo>
                    <a:lnTo>
                      <a:pt x="495426" y="57404"/>
                    </a:lnTo>
                    <a:lnTo>
                      <a:pt x="495426" y="46482"/>
                    </a:lnTo>
                    <a:close/>
                  </a:path>
                  <a:path w="511175" h="103504">
                    <a:moveTo>
                      <a:pt x="498601" y="46482"/>
                    </a:moveTo>
                    <a:lnTo>
                      <a:pt x="495426" y="46482"/>
                    </a:lnTo>
                    <a:lnTo>
                      <a:pt x="495426" y="57404"/>
                    </a:lnTo>
                    <a:lnTo>
                      <a:pt x="498601" y="57404"/>
                    </a:lnTo>
                    <a:lnTo>
                      <a:pt x="498601" y="46482"/>
                    </a:lnTo>
                    <a:close/>
                  </a:path>
                  <a:path w="511175" h="103504">
                    <a:moveTo>
                      <a:pt x="475200" y="45521"/>
                    </a:moveTo>
                    <a:lnTo>
                      <a:pt x="486065" y="51904"/>
                    </a:lnTo>
                    <a:lnTo>
                      <a:pt x="495426" y="46482"/>
                    </a:lnTo>
                    <a:lnTo>
                      <a:pt x="498601" y="46482"/>
                    </a:lnTo>
                    <a:lnTo>
                      <a:pt x="498601" y="45593"/>
                    </a:lnTo>
                    <a:lnTo>
                      <a:pt x="475200" y="455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直接连接符 12"/>
            <p:cNvSpPr/>
            <p:nvPr/>
          </p:nvSpPr>
          <p:spPr>
            <a:xfrm flipV="1">
              <a:off x="6503760" y="4190400"/>
              <a:ext cx="451080" cy="11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13"/>
            <p:cNvSpPr/>
            <p:nvPr/>
          </p:nvSpPr>
          <p:spPr>
            <a:xfrm flipV="1">
              <a:off x="6964200" y="1956600"/>
              <a:ext cx="24840" cy="2239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14"/>
            <p:cNvSpPr/>
            <p:nvPr/>
          </p:nvSpPr>
          <p:spPr>
            <a:xfrm flipH="1" flipV="1">
              <a:off x="3729240" y="1941480"/>
              <a:ext cx="3246480" cy="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直接箭头连接符 15"/>
            <p:cNvCxnSpPr/>
            <p:nvPr/>
          </p:nvCxnSpPr>
          <p:spPr>
            <a:xfrm>
              <a:off x="3723480" y="1941120"/>
              <a:ext cx="1080" cy="1825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object 77"/>
            <p:cNvSpPr/>
            <p:nvPr/>
          </p:nvSpPr>
          <p:spPr>
            <a:xfrm flipH="1">
              <a:off x="3082320" y="4980240"/>
              <a:ext cx="1864080" cy="56160"/>
            </a:xfrm>
            <a:custGeom>
              <a:avLst/>
              <a:gdLst/>
              <a:ahLst/>
              <a:rect l="l" t="t" r="r" b="b"/>
              <a:pathLst>
                <a:path w="4018279" h="103504">
                  <a:moveTo>
                    <a:pt x="4007389" y="45338"/>
                  </a:moveTo>
                  <a:lnTo>
                    <a:pt x="4005706" y="45338"/>
                  </a:lnTo>
                  <a:lnTo>
                    <a:pt x="4005706" y="58038"/>
                  </a:lnTo>
                  <a:lnTo>
                    <a:pt x="3982278" y="58042"/>
                  </a:lnTo>
                  <a:lnTo>
                    <a:pt x="3923283" y="92456"/>
                  </a:lnTo>
                  <a:lnTo>
                    <a:pt x="3922268" y="96265"/>
                  </a:lnTo>
                  <a:lnTo>
                    <a:pt x="3925824" y="102362"/>
                  </a:lnTo>
                  <a:lnTo>
                    <a:pt x="3929633" y="103378"/>
                  </a:lnTo>
                  <a:lnTo>
                    <a:pt x="4018279" y="51688"/>
                  </a:lnTo>
                  <a:lnTo>
                    <a:pt x="4007389" y="45338"/>
                  </a:lnTo>
                  <a:close/>
                </a:path>
                <a:path w="4018279" h="103504">
                  <a:moveTo>
                    <a:pt x="3982290" y="45342"/>
                  </a:moveTo>
                  <a:lnTo>
                    <a:pt x="0" y="45974"/>
                  </a:lnTo>
                  <a:lnTo>
                    <a:pt x="0" y="58674"/>
                  </a:lnTo>
                  <a:lnTo>
                    <a:pt x="3982284" y="58038"/>
                  </a:lnTo>
                  <a:lnTo>
                    <a:pt x="3993170" y="51689"/>
                  </a:lnTo>
                  <a:lnTo>
                    <a:pt x="3982290" y="45342"/>
                  </a:lnTo>
                  <a:close/>
                </a:path>
                <a:path w="4018279" h="103504">
                  <a:moveTo>
                    <a:pt x="3993170" y="51689"/>
                  </a:moveTo>
                  <a:lnTo>
                    <a:pt x="3982278" y="58042"/>
                  </a:lnTo>
                  <a:lnTo>
                    <a:pt x="4005706" y="58038"/>
                  </a:lnTo>
                  <a:lnTo>
                    <a:pt x="4005706" y="57150"/>
                  </a:lnTo>
                  <a:lnTo>
                    <a:pt x="4002531" y="57150"/>
                  </a:lnTo>
                  <a:lnTo>
                    <a:pt x="3993170" y="51689"/>
                  </a:lnTo>
                  <a:close/>
                </a:path>
                <a:path w="4018279" h="103504">
                  <a:moveTo>
                    <a:pt x="4002531" y="46228"/>
                  </a:moveTo>
                  <a:lnTo>
                    <a:pt x="3993170" y="51689"/>
                  </a:lnTo>
                  <a:lnTo>
                    <a:pt x="4002531" y="57150"/>
                  </a:lnTo>
                  <a:lnTo>
                    <a:pt x="4002531" y="46228"/>
                  </a:lnTo>
                  <a:close/>
                </a:path>
                <a:path w="4018279" h="103504">
                  <a:moveTo>
                    <a:pt x="4005706" y="46228"/>
                  </a:moveTo>
                  <a:lnTo>
                    <a:pt x="4002531" y="46228"/>
                  </a:lnTo>
                  <a:lnTo>
                    <a:pt x="4002531" y="57150"/>
                  </a:lnTo>
                  <a:lnTo>
                    <a:pt x="4005706" y="57150"/>
                  </a:lnTo>
                  <a:lnTo>
                    <a:pt x="4005706" y="46228"/>
                  </a:lnTo>
                  <a:close/>
                </a:path>
                <a:path w="4018279" h="103504">
                  <a:moveTo>
                    <a:pt x="4005706" y="45338"/>
                  </a:moveTo>
                  <a:lnTo>
                    <a:pt x="3982290" y="45342"/>
                  </a:lnTo>
                  <a:lnTo>
                    <a:pt x="3993170" y="51689"/>
                  </a:lnTo>
                  <a:lnTo>
                    <a:pt x="4002531" y="46228"/>
                  </a:lnTo>
                  <a:lnTo>
                    <a:pt x="4005706" y="46228"/>
                  </a:lnTo>
                  <a:lnTo>
                    <a:pt x="4005706" y="45338"/>
                  </a:lnTo>
                  <a:close/>
                </a:path>
                <a:path w="4018279" h="103504">
                  <a:moveTo>
                    <a:pt x="3929633" y="0"/>
                  </a:moveTo>
                  <a:lnTo>
                    <a:pt x="3925824" y="1015"/>
                  </a:lnTo>
                  <a:lnTo>
                    <a:pt x="3922268" y="7112"/>
                  </a:lnTo>
                  <a:lnTo>
                    <a:pt x="3923283" y="10921"/>
                  </a:lnTo>
                  <a:lnTo>
                    <a:pt x="3982290" y="45342"/>
                  </a:lnTo>
                  <a:lnTo>
                    <a:pt x="4007389" y="45338"/>
                  </a:lnTo>
                  <a:lnTo>
                    <a:pt x="3929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文本框 1"/>
          <p:cNvSpPr/>
          <p:nvPr/>
        </p:nvSpPr>
        <p:spPr>
          <a:xfrm>
            <a:off x="6854760" y="4721400"/>
            <a:ext cx="990720" cy="215640"/>
          </a:xfrm>
          <a:prstGeom prst="rect">
            <a:avLst/>
          </a:pr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/5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个工作日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直接箭头连接符 7"/>
          <p:cNvCxnSpPr>
            <a:endCxn id="87" idx="3"/>
          </p:cNvCxnSpPr>
          <p:nvPr/>
        </p:nvCxnSpPr>
        <p:spPr>
          <a:xfrm flipH="1" flipV="1">
            <a:off x="6473520" y="4691160"/>
            <a:ext cx="439920" cy="1378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triangle" w="med"/>
          </a:ln>
        </p:spPr>
      </p:cxnSp>
      <p:sp>
        <p:nvSpPr>
          <p:cNvPr id="140" name="文本框 101"/>
          <p:cNvSpPr/>
          <p:nvPr/>
        </p:nvSpPr>
        <p:spPr>
          <a:xfrm>
            <a:off x="5684760" y="3513240"/>
            <a:ext cx="817560" cy="215640"/>
          </a:xfrm>
          <a:prstGeom prst="rect">
            <a:avLst/>
          </a:pr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个工作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箭头连接符 9"/>
          <p:cNvCxnSpPr/>
          <p:nvPr/>
        </p:nvCxnSpPr>
        <p:spPr>
          <a:xfrm>
            <a:off x="6079680" y="3691080"/>
            <a:ext cx="1080" cy="1864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triangle" w="med"/>
          </a:ln>
        </p:spPr>
      </p:cxnSp>
      <p:sp>
        <p:nvSpPr>
          <p:cNvPr id="142" name="文本框 104"/>
          <p:cNvSpPr/>
          <p:nvPr/>
        </p:nvSpPr>
        <p:spPr>
          <a:xfrm>
            <a:off x="3130560" y="4707000"/>
            <a:ext cx="752400" cy="215640"/>
          </a:xfrm>
          <a:prstGeom prst="rect">
            <a:avLst/>
          </a:pr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一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05T15:32:09Z</dcterms:created>
  <dc:creator>syy1</dc:creator>
  <dc:description/>
  <dc:language>en-US</dc:language>
  <cp:lastModifiedBy>赵希强</cp:lastModifiedBy>
  <dcterms:modified xsi:type="dcterms:W3CDTF">2024-01-05T15:32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99B34D87A9D4C8ABCE0CD5A5CAF2FCC_12</vt:lpwstr>
  </property>
  <property fmtid="{D5CDD505-2E9C-101B-9397-08002B2CF9AE}" pid="3" name="KSOProductBuildVer">
    <vt:lpwstr>2052-12.1.0.16120</vt:lpwstr>
  </property>
</Properties>
</file>